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D02D1A-2649-450A-B0AA-13805F425903}"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92AF9-6495-41FF-9017-D1550A0D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73BE-42D7-48DB-BB8E-5671E131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A92DA-E4EC-4EE8-ABAB-46F946C3C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435A4-7B8F-4E59-B684-3C14C90CC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C710E-6306-4FED-9452-7B4C0972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3A4AA-8461-4CBC-9FD6-05ED4A57E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39E70-7080-41E5-B77F-DF4D124E8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3FE0A-13D9-47A5-857B-639E08D45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D400-598A-481D-AFF4-7907F7CC9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50C71-E192-406C-ABE3-CE44BBE9C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CB77-FA23-4E90-8946-DF74C703C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21D89-68A5-4F50-A1EF-F2886E7EC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CC81-1AE1-4D76-9F22-2930BF1FA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B8FF-4443-40E2-8993-1E1082F23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13638-141A-483B-BD20-5019910D8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ED65E-38B9-44F0-96F5-C64CFC67D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2BD3F-8EAA-44E3-B3AD-B4D140D3C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25D48-C355-4138-B8B6-B433FF1A8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A0B36-4606-449F-AC20-BD635A68F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A7B86-AA69-429F-87AB-465EEB661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57E8C-F3B5-4B02-B46D-39517CE27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8BD8F-B690-4EE7-B5F6-080233758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F81E2-5316-4D31-A857-09D697D62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25760-BCDE-42AA-96C5-6577ED1E6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98C81-D023-499F-80E8-35D62E2E3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456D8-0528-48D1-8EC1-4FA8B225A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3B80D-DF71-4CDE-A20C-7761B4ECF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6B3FE-1D68-4765-ADA8-4786FEAE3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4360F-C918-4E0F-AF7B-FFE0B8B32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C7AF0-D20E-4E18-A96A-2126951E53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482809-4422-4F0B-8F9C-829132172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DDBCD-D456-495E-B74A-212A638BE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72356-8EAB-486A-8FBE-11A5D3CEE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1BB70-2FFE-40D5-A063-B5C0D956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21DC5-2CCE-4A82-B135-0994B163E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42020-E7A6-407F-827E-4566100A1E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00014-9D3A-4CB2-B13A-2BCB9CF77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F6618-82C1-4C69-A591-1430DDF3F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47704-C739-4049-B7E0-0AB56F339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79D40-1E88-4316-B531-0791592D8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6B7CF-5E70-44A9-8016-90318B606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ABA61-584E-46AE-8BB7-B4EF4A940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8EF29-960C-404D-87EB-B074146D97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68C42-2057-402A-BA43-879F02CEE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3512-CFC0-447C-B5FE-FAD74C830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6C7EE-2B78-4361-B9BE-33D87242B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3FC36-5260-42AF-A993-2AD037946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E12D8-A651-4C1A-B7FB-F173E80A3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EB529-50BD-4002-81E8-D7BF05E83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829504-A933-4B8F-96B5-69EB55F33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289F9-6F4A-4DB0-B283-3BB021E17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03B03-5A29-403C-9136-32AC6E4995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2B05F-F980-4EDD-ABC3-EC4258F06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E4DE0-83B6-4968-B426-EC7056910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04815C-A536-40AB-9485-A4F5A3E0E9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D57E-FF48-48BC-8E86-C472C0E8D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6E8520-A105-4B43-8513-BC838279A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F3A99-E5F9-4D53-B51D-2C8166CE19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646F56-266A-4C16-8E1A-883A05DB8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BA03D-4264-49AE-B52A-3DEC0674A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97DFF-5F84-4C9D-AB7E-9CF528A37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8BE803-E892-4511-B179-B0A5AC1B1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69925-113B-4EC9-8A3A-EF3179CC9C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B3CBC-3F6A-4869-9C8D-97E26AC8F4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083C3-59FA-4900-B90E-9307A27EA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D2A48-96D3-4FF4-9402-51A347EEF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DCAF-674D-4E02-A6AB-4201FE4B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377F7-B37E-43B7-9C68-80D9DB8DF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B49CC1-FB10-4C9C-9F58-520EF205E2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489179-4D9B-4712-A5CF-4CCD76C2F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801B83-5912-42A2-93E0-F6986CFBE6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83348-C572-40F7-A662-442F51700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B1885-5A69-4E9D-BB9A-57E941551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85BC96-F77F-4B52-B88D-897C533188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450F8-42A4-4412-AA58-2ABD394D4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D9B417-C704-472C-AA3B-CAF791F66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AAA50-4DF6-4F18-960B-C2B0E1CDD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B6AB4-A161-4B9E-B97B-007A7A16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B9B06-04F1-44AC-A65A-FA4D163A0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910B1-6DF8-4165-99C3-3777291FB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C519A-F5C6-466B-AC86-6F8F58A79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C5A93-3287-4548-9743-0570DDB55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904DA2-C350-4D86-BD6C-AA9831F75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1F9601-6B29-475A-BA1A-27109B5AA1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2DAD93-E9F4-458F-8433-778F33B278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60272-4BFC-4102-9CFA-D512B9061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19C60-EDA8-45A7-AA99-52C153D9C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4696A-BDFC-4F47-99FC-F5C803F0EF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3F68-6024-4FB8-95FA-66F6D915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5B4FB-C7F9-46BE-B283-852B742D2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03EB2-1711-45E0-9244-19C74D95F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38727-DE08-4609-86D8-5B42D51A6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A5BC7-53B3-48FA-9EE5-D90FD596F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FEED1-F5AC-4824-92E7-327B81E67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590AE7-64D6-4CC5-94EB-4E1F1626F8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94DC08-968A-43AE-A7F0-6F92FFBA436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3D00-C196-4209-8264-B3B220B566F6}" type="datetime">
              <a:rPr b="0" lang="en-US" sz="1400" spc="-1" strike="noStrike">
                <a:solidFill>
                  <a:srgbClr val="000000"/>
                </a:solidFill>
                <a:latin typeface="Arial"/>
              </a:rPr>
              <a:t>07/30/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23A8-132A-4B16-B76E-8ECA8752E3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03A0-03A2-4874-8DFB-0AE6385F05EB}"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8584-2CF3-4C16-AD20-A2DF9ED7AF2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3256-B864-436F-9B5B-898B2131A662}"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A750-2A12-4C77-8598-97BEE673E12B}"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6ACD-3BA8-45D4-A2DE-08FE771A84DF}"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61FE-1C79-4EA8-BFA4-82FF2EFCCAD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A58C-5C7E-4828-AA8F-9285BCF04EDF}"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A5BD-8B42-4359-ABF8-EEF414BF90C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18E7-7243-43C5-8792-006FC5FF9D0E}"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09E3-2980-4044-9B72-2DBC3A2B071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842B-E18A-4D13-B296-460C5B7A895B}" type="datetime">
              <a:rPr b="1" lang="en-US" sz="1400" spc="-1" strike="noStrike">
                <a:solidFill>
                  <a:srgbClr val="dde9ec"/>
                </a:solidFill>
                <a:latin typeface="Arial"/>
              </a:rPr>
              <a:t>07/30/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86AC-75DD-4C6A-B8F0-4837AC75DA3E}"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5712-5108-4493-828E-3189D62046B2}" type="datetime">
              <a:rPr b="1" lang="en-US" sz="1400" spc="-1" strike="noStrike">
                <a:solidFill>
                  <a:srgbClr val="464653"/>
                </a:solidFill>
                <a:latin typeface="Arial"/>
              </a:rPr>
              <a:t>07/30/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8FEA-9BE9-4014-8F53-C5511187077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2A2C-B8B2-4E5B-A99D-3F6AC7C971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4100-CC98-4514-92E7-51CC588842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2446-9631-4763-89B6-8EC3E13CCD4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BD4E-1F63-4B0E-8945-4311CC0B1E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6B17-5ABE-47BC-A2AB-83E32479A6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0B89-72A1-4293-8869-42058F6A4D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6480-92D7-4B80-AC77-CF4DAFD52F9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C4F8-47E0-418E-82B9-6365FE0551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7987-52D7-4C6D-8FCF-2639F72CA6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2153-2F3E-4D09-893F-728FD144C1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AD57-25ED-4944-82C1-4C3ABEACAA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C852-03DB-46E2-B918-F695B20016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0018-E9E3-4337-A514-940941B4E36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C1BF-04E0-473E-9CD8-7FA0EEBF96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BC0D-C784-4901-9C71-7E284D0AF5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9932-AED7-4219-903C-81F045E5C5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6435-7FF1-4FCF-8A0F-1A74B99272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CCDA-DE74-4263-8510-F6488F8D1B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8935-68FE-48BC-94DE-039B7D65A8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3307-72DA-42E2-A2E4-76FE045B99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A643-0F76-47D4-BCED-B4B2A1C478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E549-8E7F-4215-BCC0-FA70B9EEF3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C54A-32B1-4A4F-B436-9488FD1A16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84A3-6588-4650-A3B3-D2928928182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2606-8394-4C1D-8F51-3ADD775B93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9088-F01C-4FFE-A2D2-B1A9EE7329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772F-88AB-465B-A9B8-4F17C5A527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FD7F-BA12-45CC-96CD-8F041DB45E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3B27-F528-4955-8BEE-DFF7C41A89E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1904-B45B-4219-A869-2B36D6ADAD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C47A-C11A-46F2-BB41-DAE54E5CC9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CF79-28C9-4B14-A98E-8F2A1266CFC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EF21-5D91-433E-B3E9-9F81970055F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71CE-A498-4373-9DD9-67B033CC61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316D-553E-47BB-B08B-24E13A993F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5EB-1DFF-42BE-B4DE-0F377ADDE4F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E91F-F6B8-45EE-9CE6-5792CD2F7A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C165-2948-47E2-9981-53D3EB2F61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FB32-02C5-419D-97A4-5438A64165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FCCF-C798-4A2F-B31B-EDBEA9466F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8486-10A4-468B-878E-4AC62D5558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C0A5-A4D1-4A5C-9482-17E0F8C64A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7066-F283-4780-B265-FA007BDB10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CFC7-4DE9-4B49-84AB-3576A3EF27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5839-E80E-42F3-8466-3643D1985D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7753-45A4-451A-A640-F26E66BFCE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64DE-A6FF-44F3-BB54-894CB0E87F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A05E-9877-4582-948D-620C34B0FF3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