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B236796-872B-41F7-B221-0F861FF4DA39}"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12C92-5481-499F-8B94-765135838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FADC1-CF25-48E9-866F-1B6A3A98B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4A6D8-C9D0-4398-9B42-C0425712B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A436EE-E867-42C8-A31A-669817AEF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7C1AE-A29A-48AE-85AD-C10584B8B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E902B-2E27-4705-9BEE-C9AE2FB14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A4C9C-65E1-495B-A353-4CBB1E4D1C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807856-888B-44A7-813A-283F94353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269B8-3986-47C1-A63B-C524B007A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20C50-5CB1-4328-A735-968D66EC3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0AF7A-7100-42EB-9B6D-CE2B7A9C0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C5560-B17B-4FA6-916C-DB91C59A3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5BAE6-9E83-41A7-8155-437B6131F0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6D372-A5ED-4CEA-8C28-EA6E8CFD5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106A8-B17E-4F80-BE81-F199193E6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75B8D-8EB8-4497-A3B8-DBBD50D69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1E54E-8105-4AF8-A01A-0450F088F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14268F-AB17-4889-B3EF-677242C11A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C08A3-1023-4E01-A614-D1B1A9936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0F0EC6-CFEB-4B83-8063-1244EE17B4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5E069D-DFA2-4F20-ACF6-168C976571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A2F9D9-B786-4641-8293-C6C0FC983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1C7BE-A7D8-4B34-87AD-30167B812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8D3E11-DB16-424F-9908-76B01F6B84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1542E1-1C75-4460-A44B-0C33DAC205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A691C-4F09-42F2-8320-CAAD6C694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3364A-20D9-45B2-BFEB-D8CA5B7965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955D90-0C5F-4340-9DE9-D525EF3963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7B0D05-BA24-4989-BB0A-D6AA2CCF31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9EB6DB-0699-4EC1-996E-05F7C82B48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205713-3CFA-4E75-823D-B7710DF5ED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D44016-C54C-4280-ADDD-3E47093F83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692330-4551-4AE3-A255-B32FC39A8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8FD95-50ED-48C0-919C-1FB075D94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C6A9F5-3E1F-4731-B2CB-59B09B16BD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4D4EAF-1A70-4B80-80B0-CFA32304CF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6FB66B-EF31-4CA8-B698-1D21EF7287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069C9-8D7F-4615-8BD2-EFF3AC5EAC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5481DB-3C1B-4A9A-847E-4E7EF115D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677E8C-D61A-4C02-A355-FD4B7AE03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066038-1B24-42AD-B55A-5ED8BD793D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E66FA5-3E5A-47B7-8B0D-2D2BCED163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F1C056-26A9-4698-96EC-F1D275E11A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E60C73-3B13-476F-8D2C-2272073EF5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FA6E9-89CC-46CA-BA69-4EA952894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3EFA4C-0027-471F-B480-2878C9845A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A87F32-6D43-4B0B-AA7C-87CCF9F3ED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EDB16C-1124-44B1-A1D5-84983B2365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370A32-2A41-4F7C-9A23-C2BC23E894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644692-E618-4EE7-9310-5541F24850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78D0E-95F1-4D9D-BFB6-2797A59396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9F030-DCDA-432C-89D9-0A8AD0D31B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12FBF1-F102-4D7A-A601-E5F7223D06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CC76CD-5060-4B9B-B1D6-6C3DD80326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28D316-4427-412D-A0E2-1EF1E67AB9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4649A-8C2D-4C69-AB89-A7098981F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666CF04-936A-44FC-BA3F-C637CC7D9ED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14EC72-C3C5-4BB6-BC64-F59BF3EA59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A5C8CE-3106-48DD-B2FF-953B85C98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BC7856-4796-4EED-A9A7-2CD85EB63D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CAD93F-1E91-4F3D-A272-702270CC4F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FAD7BF-9A0B-4F0D-8E63-BBA469CC89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95B4B9-EE1F-46E2-8D2C-E30CF20789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A2D057-8F08-494C-BDAA-94870A865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44CC8D-8559-42BB-B514-CA5ED976DC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DBC03A-88A3-4791-8A05-BC1A3BFE61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C3199-00E7-43F8-9706-B402B01E1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C7E302-4607-49C6-BE75-F1D6B73F1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5A704D-9B01-48E6-B990-63992578CA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314163-DBEE-4198-8A15-D086082C8B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39DC22-EA01-47C2-AC79-E215952799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9C0FFE-EC60-4E18-95A4-98143D0F46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1E38C9-475A-4F46-B47C-1AB7637DC8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EDE208-1B51-4520-AAC6-2872AE1DE7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D4344A-0A45-4E50-9A57-7840EBA1FC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241195-2836-496E-A473-77AE691DD2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A8C551-6D69-4757-9878-8E854E3D5C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F439-5443-4A45-BF93-E6A8B11EB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696716-C43F-4DDB-8E5D-028F8717C1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5FDA0-FD05-4887-984C-A732E10C9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8525DF-7567-44AE-9340-FBB3701719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9BBD88-D561-4D52-B6D6-6DA210F8E3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8CFEB5-F2EC-40A5-A62D-3E9CCD7AD6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293FA8E-E4F7-4CED-AC3A-F98292A539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939568-43F0-4EB3-BA3C-03B7DA5C42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802082-A794-45BF-A587-881AA3CCF1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4206AD-A8BF-4410-8269-29192345DA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13B9CE-E0AC-4EE2-B7C8-336CF54BA7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A8F7D-C29C-415E-A822-6DA132588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5A5134-808B-4539-B87F-FDA4564232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AD4912-DB46-43BA-AE65-B088168018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759A53-C2AC-40B8-9CCC-F5C1D42774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728B17-BD18-4AC3-815F-CDDE8A0745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B5E486-C15C-477C-A533-8921371E10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276BF5-840D-4940-A843-8D966F21D2C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29D926-5475-4DC5-A3F7-85042F6F8CD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4E01-5FA1-453F-B454-065BF4E1F1C5}" type="datetime">
              <a:rPr b="0" lang="en-US" sz="1400" spc="-1" strike="noStrike">
                <a:solidFill>
                  <a:srgbClr val="000000"/>
                </a:solidFill>
                <a:latin typeface="Arial"/>
              </a:rPr>
              <a:t>07/28/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7424-09D9-429B-BC57-3B45363E2FF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4B9A1-5FB5-4821-BC97-80AB7BEEF5C2}"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0F241-02D5-4BB9-87CC-ECA8E70766A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B710B-790F-4BCD-B98A-7907EF217FD5}"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03EC-B5A0-49C9-AF70-553908C881E3}"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D6FA-7F0F-4E54-B562-B2FE763B5BD6}"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C320-B5BF-43A6-BFB0-9824B249006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A5EF6-1075-4874-BC6F-6213883E2147}"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12120-979B-4C0E-812D-2B0B63C0891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8C06C-7ECC-4F8D-90A7-BC85BA095DA0}"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BE234-BB3F-4B1B-889A-CF18BDFAF6A0}"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9F7D-4E9E-4AAF-AD68-4BBE4C1E5201}"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02907-3704-42CE-AE02-1F8870F8B7BE}"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321A6-5545-4CEB-95D6-2644DC81C489}"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F55F-F402-4772-A270-8CB48CFC702C}"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3D0A-3C22-4388-83D0-8A36C017033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D4BC-E3C3-4CB0-9D71-988F327D7AA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FB1C-DF54-4460-AF76-F4BC150D2F8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FA56-08BF-4A07-81CB-13979087B60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A34A-ABA7-4975-8551-3859B96A47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543A-8558-4406-8716-E1F6A64F2DF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507FE-0F44-4DA1-976F-F59260DE556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D0F5-7953-451F-A3BC-47817457839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6DBF-A082-4DC4-B621-FBFA84293E4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3D67-D8E7-4BF0-B81E-5CC66442F17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A457A-93F3-4C2B-8ED9-EC8499AECEA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4A7E-5946-482D-8AEF-75FC8D97104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B7652-6DC8-4772-90E4-F96562CEB6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AF44-7FB9-4163-A299-75931FA6743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7AC9-37AD-47CF-8EFC-C2BE4AD79A2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CED9-7FC4-41EB-BF4A-01CC55928E4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0F60-FA00-4FE8-89DC-4C8D30AC852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33C0A-B935-4772-8344-44C66E5C5CE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F7D6A-0D79-4C5B-9543-AFB7C717DA9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D810E-3B99-4CDE-845D-AF86D1F4D2C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84685-FBDE-4C79-A88D-4937E5CA230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10AA-3406-4C2A-95A8-17374988A9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1747-5CD0-4F5E-B08E-B1D9A99D975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6847-E0D5-410E-B227-E894DFA3A2E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A65A-0BC9-407C-9513-DCF4B83833B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87B1-1C7E-4192-A020-333DD0468FC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A4FEE-C47A-4C76-8EC3-16AEB7A1BCA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F25D0-3427-46B4-B7D8-499172FF8F8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05978-5281-4752-B121-777EE1A3BAB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A343-2A27-4B7C-966D-F69D9454C7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C16A7-8A1F-4CA5-A1C9-15F2DC2EAF3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7EBF5-E93F-4855-8776-AF03426D81E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0087-AAC1-4A85-B961-8DB19A31985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8160-2384-44F6-BA39-F4D39040690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73F55-6775-4DD9-A17D-DBCB39F4808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CEC1-49A4-47E6-A1DB-7813C33EDBE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FCA2-BC1D-4524-99B9-8349D3524C4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907E-573A-4D52-B0B1-91EB05C4A23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DA8BA-DA99-4B30-9AB7-9243AB7D1A8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79406-7B08-47DB-B595-4C1AE709A08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75309-2DAA-48D1-88DB-56964F3CE0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4DECC-69C6-4671-ABC3-14077AFE0F9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355FE-9710-4F70-A81F-97579C286FB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635D-D4B5-4EE7-BEB0-4BE6630C373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A8765-0996-433F-B901-79A17D47746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C6BE-D536-4F63-8F92-E7DB040FC03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D8F5-D701-4FE0-B0F0-D42EE3381C8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1D9B6-876F-4FC9-9B4A-7E2514BFBA5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