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40D660C-D087-463B-9526-DA462A3B2046}"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F86B5-45A8-48C5-870C-BDD2A4CE6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63FB6-AD54-49EE-B734-27930A1C6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B0ED9-E79F-4464-A021-2195A07E7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EDB51-98F5-4E03-9520-9A757B8B1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2AB3D-8E10-4B2D-9B8C-8DB9A115D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2BB93-C2CD-4B31-9218-59C2DDBA6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C3A20-F5CB-424B-816A-BB3122081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90B54-EE2C-4D9A-B96B-A9A761812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0A405-E2C8-4985-A524-D87946EF1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63994-643D-4509-A239-36E785CF9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07F1A-EEE7-477E-B9C6-ABE52E4D7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A9A54-804E-456C-A840-6CCCEFBED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329B2-85C9-43C9-8A05-7A5B859D3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F6833-ACFC-4F54-8F5B-93EE3DEF4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27B94-9CFC-499A-B71C-1C5FD08EE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3381E-1520-493D-BAD2-4BC82FD92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4054D-6881-4558-B66B-B719F284E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57692E-1F93-484F-B69C-A3B64D45B7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0C07F0-223B-4833-84CB-052B47AD36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315A7-24DB-4625-8FAF-BB0270D2C8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277BE8-C890-4182-988C-4E660AF7C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C76916-31BE-4882-86DA-B092392690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79D63-BAC4-4422-B065-499FDE725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0A55AE-D4DC-45E2-B894-741AF04A27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D6E5F-E462-4059-B541-3D3F4E558D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EDE319-8A52-4232-AB52-EDCCDD545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700C5D-82CA-4BB0-AA74-8291AFF31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C8351D-70E8-4F15-84DB-9AE0585803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39B5DA-B6FD-4AA4-85EE-CF9E4A8FD2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1394DC-1EDA-4D8C-A109-BB3E8FC450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6AF861-5672-4EDD-8F04-45F23A3FC2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3AC8C6-C29A-43BE-923B-3EBED73BDD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029882-083F-438E-BF4C-4FCA410477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9D7E5-B3DE-4608-9025-268D3A0FE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D1C644-28BB-4569-9B0A-35847DF805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4D78A3-B750-482E-83AE-9C7B0F54D3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B93730-F123-4506-851B-306B02828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9373DE-8845-4087-A164-7595599BB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05E16-D9A6-4A66-AB10-F23E36FEB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0B4351-1B8B-48A9-8984-50DD6AD54D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2D4161-F868-4246-AE90-4EF482ADB2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70BA53-6403-4BBA-98C1-35DC24FE0D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4C48D1-63B1-448E-914C-BB90676040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FDB397-AF65-4D63-B373-20BF6BE5CA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269AB-6FDE-4275-ADD0-334315780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310FE3-42FE-4AB5-B1C1-01BF3DE50A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D16FDB-5862-48BD-AC21-A27C8D0474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C3ED5F-241D-4CA3-B6F7-86782112B1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9E0BA7-5D17-4F5C-8FE7-DC683425A5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E769A6-5BBF-44AB-9CF0-214C757180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7DF2D-D79D-4AA4-860F-D225619D8F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54A79F-9C3E-4739-A84D-301BBCADC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E3875E-C0C1-4D47-BD01-E142788B4F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C7F2DF-7F57-4E43-A8DF-A919297140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679A2A-E230-445E-9210-94DD2F8138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5F9B7-8BAE-4309-9B28-E1EC71E37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025EB8-0A53-4692-8BB5-DB1D101EA1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22C462-079E-4C55-9304-93A945E87F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94EE31-718C-4FCF-8B3F-AF65A8EAFC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DE95E0-BDA7-4437-A623-36A9B4B187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27F6D8-D1DB-48BC-80D9-9F6E530E47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608DAB-B47C-4C4D-8E60-07A3A6616D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6ECC7C-BA6D-42BC-9D04-CF989FE716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91C5A6-A046-4EA6-949F-2DE58D64DB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B55503-FD2C-4633-8B17-D4E1923F69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CE9199-F8A6-4A8E-BEE8-6D24B557EF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601AE-B16C-40D1-BEE3-38A64BAA9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D4B8A5-4183-4978-86C3-1EF601199F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5ADD0D-3344-4644-AB18-ADE0B772F6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225F55-E2DA-4DDE-8BCA-763B1D17F6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DFE743-AA38-4DD7-A4FA-715CAF2F0E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80A648-1089-4ECF-9A8C-27B18FD001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1A2F80-AC9A-4FB2-B95E-DF98AA2378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F04C69-0DAD-4CB8-AA49-913BA4AE3A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379EC8-ADAE-47EA-A2EE-B48CDB18F6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C00B46-1C33-4E29-B30F-81DB695D62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AB85CC-87FC-42C7-9881-0F12DE9C9E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365CE-819A-44D1-AD2F-9FC8B3FC9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2DDAEE-269D-422D-B9D2-8C5198AED8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F77836-822C-4F7D-AD52-C053A21D88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E3054D-AC8E-4161-8A00-136010B595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D7FCC6-FBB2-494D-B42B-9A2A90E813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88CB40-46A3-4D6F-B5A0-B075831442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5AD1DB-BD5B-471D-8C5A-6AFB2C7124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A4D571-FEC7-49E0-AE69-8E4D1E784B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C25091-4A52-43E8-B3BD-3C15A8795A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DEC06A-0A88-469A-B8EC-C2786FD2AD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E5BB98-AE24-4B65-B8D6-2094577B0B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DC60-6B17-4698-A7D7-2BD279135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4C7FDE-3E4B-4214-A879-709F1C761A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45E014-E125-4B28-A733-1F96CB842E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51E47F-7CF4-42CA-9590-A92608154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AA7CF4-9E7A-4BAC-98AC-147640098B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99825E-1DCA-42FC-8814-64EB1F5E9A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644B16-7179-4C43-ADED-EB9D75A152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261F42-BD3E-4671-A7A3-CECC836E65E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B2B6-7A24-403E-867F-A750ECF472D8}" type="datetime">
              <a:rPr b="0" lang="en-US" sz="1400" spc="-1" strike="noStrike">
                <a:solidFill>
                  <a:srgbClr val="000000"/>
                </a:solidFill>
                <a:latin typeface="Arial"/>
              </a:rPr>
              <a:t>07/29/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71F1-02F4-4D14-AEDC-4923A3682E5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1743-C22C-4D56-A130-96D52AA57DD3}"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9618-967A-4011-8894-EE19A412236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D33B-45D6-430E-9BBA-ECD8801C8976}"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B9C3-C594-4EFF-9190-35CF1840DAC7}"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905A-6205-4431-85C2-AB0F7696CF27}"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777E-102C-4588-8A1C-DAD560FD8E1F}"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4FD7-E568-4BE1-BB64-25290782FC71}"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05EE-2E4C-4328-B10E-59C0C31866C2}"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EA33-9BBC-436A-83B9-5FD11E57C84D}"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8E9A-A649-4145-8724-CA497205A492}"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10B4-9304-4B58-8483-5485C1C5017C}"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5327-E722-498B-A043-9CEA01064908}"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37C9-3B94-4172-840D-379E15F6A72A}"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9055-7D01-4D8D-B21C-087910792B8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462E-E389-433A-8C5A-03CB4842329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EE38-740B-43F4-BAAA-DF7A8C03E56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5355-369A-4CD4-90D8-478D7F33129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B811-91CD-4366-8D98-D5DA47DAFA6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7C3D-D8A8-4D72-8004-282E96D00A8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802B-BFE8-4734-9250-0CB20BC4026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DD3F-52C3-4506-96B0-CED1AD42685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EEB0-D9A9-4CC3-BC05-984F051ED71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2A8A-B5DF-4E7B-B8FD-A47A7FB27BC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0B5A-5A48-4B9C-8DE5-2918E3E8E1C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758F-8213-4DBA-B5BE-897F948B1EC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6F31-A009-4DBE-B53D-12FF6DBE3EE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CD29-1789-47A6-BA20-B4B05B0F3A2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9E26-31A1-4280-AB3F-6A661F679A7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F97C-3C5A-48D8-9532-5B25798F111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4291-9C1F-4DFE-AF72-DFE94429AAA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8099-6590-447A-9B3A-6184302E54A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3C57-7922-4AFE-B272-F86587C2077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0AE5-98B3-416B-8023-1E3221C7916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AAE1-40DA-442F-87C4-B56938A9458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0125-3721-4550-B752-BE844C71A43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3BF8-D45B-4424-ABDA-20609C2FAC4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9290-81D0-4746-AC5D-877D589E693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CD8B-E7CF-4246-B0D0-90F04A898C9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79E7-C78D-4BCB-AA8E-C0B6B2706DD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585F-5873-4FD4-9FAA-233F16F85C2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F5BC-7417-4789-81D2-A00B216EBAC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485A-F2C0-4F9C-8039-531B63D6B72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44E7-9FCB-4D3C-B462-7979675C29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E41C-3665-4457-973C-AA62674DA49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174B-B16E-43D4-8428-91DB88927E4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65A9-2184-4F0E-B036-7AAE289900A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9AB6-4469-4BA0-B768-3E2EF6DDC9D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58F2-637A-45D9-85C5-0963EE4CFB6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3CF7-E5E4-4F9B-A684-34FC100DB68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0596-D093-4360-95CA-9C36E8D9BEF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D0A4-3503-4A32-A3F7-D622370D275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EB91-2247-4A4C-B7F4-9F495433FEC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BF61-8607-48E3-8919-B149C45D0D5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BE75-A800-4811-A7B9-98BE3D81109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45E1-70F7-4F37-85FA-8389900F743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F698-BDD4-425E-8EA8-09A903A881D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1404-DB9F-42C6-BCE4-64E36F2E769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7AAC-87E5-40F3-8B09-DF915692D13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A357-31CB-4D4B-A12E-C039CBBE9F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7862-DA37-4702-9220-4DE09F7B27F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C878-FC50-4CFC-826A-69CC715FA42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3F63-9B08-4EBA-A940-C519C5AA6B6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