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6B9C3BB-3195-42F7-BF72-D3FB797A31F1}"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FFEA3-6B44-4FB6-A128-75F43E81E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82559-238A-4CBC-ADB6-B4D53F48E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980FF-85AC-4E0B-A7DF-85887D903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3F6DE-13C3-4053-80FA-79636A45A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C1687-86DE-4EDD-B612-43F1D49DB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969CE-587C-435C-BF81-CCDFDA622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10B2A-0D31-460C-B5F4-30C07E9BA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2DF83-F5C8-47F5-A56C-1C16286DC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7C314-E3E7-46F4-BA58-66CC87DDD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46410-7F8C-4833-9D87-203463AF6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3A397-4E46-4DB6-9EA8-2AE90BC13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638A6-D9BB-48E5-80E2-519B5821C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F0DC3-2781-4CCA-93A1-F328EEB27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F748A-B176-42FF-A2C7-EB28C297D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E3B6B-6B77-4005-B221-AFCE22F72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82747C-FD5A-4DF5-BB7B-8C931F19E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7769D-AE05-4CF0-865A-B14F87820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A8932B-735E-4739-A376-23D1A627DC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63933-0F56-4792-9159-054D3CF4BB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1CCCB7-4FDB-4E9D-8E98-FC4022938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01A2D6-7900-41CC-A6F9-2B84D5B884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59F3F9-3A85-4DC1-815D-F83F6E7E4C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86C9E-4CAB-4801-A262-28E711B95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28C4F1-95D5-4324-80C8-0522A7E0BF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8C8ACD-89A4-4EBA-8631-8CABF210A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1B8D00-4041-41AD-AB39-632B85065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DAE8B-647B-4838-A6E0-674B0C45D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85919-FAC4-40A9-8E7A-EF32E5E22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3A2CF4-B956-4A56-BD56-8FD214F920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F935B1-40FE-4DF7-B583-C8875BF318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862FB9-46B8-41AA-B8CA-4894EC4FE2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6C5B5-4165-4D81-B9FC-17BC6DEA84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691743-5B28-4264-82F8-B3C3D26246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AF6CA-D9C7-4B06-BD05-77986F1D2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20D4DA-9842-4BD9-B15D-DA965E5CE2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A3518A-ACD4-4434-B546-B634A1C307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FC5827-8A4B-4421-8764-CF9A2A4685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54DF3-1707-4CB5-88C8-D12DDB60D2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0C6BD4-9BD6-4836-8017-D298B93B2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08ECC5-9D8A-4ABE-9915-158682D471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CA06E2-02FD-45FF-AB9B-83D1D7E4C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43015C-F718-4C44-AA87-4AADADD0E8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967D77-B709-48B4-9124-E5FCD1AC56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416B96-26E6-4D25-989A-28D8980A79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4CA86-F06A-4BC2-A3F5-CE006F8D0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3F38FC-A450-41B3-90C3-81B7469C3B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68EBDB-0A6E-4B8D-AAA6-3E997C5F1D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5C9911-016D-408E-987A-F7B9FB411D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ACA834-A307-46FD-B2A8-53E10FC5E1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C99239-442A-458A-81DD-A68582E9B9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6FA45-128D-4F12-BE91-A441F8333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5CD415-9FED-4C69-A316-DEDC262B7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13484-2576-4B62-B29E-D314E6D6A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C668D4-6C14-46D6-8EE4-7C794F7C65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BC61A7-9E74-46B2-99E3-E8A87F949E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C3244-72A6-4FFB-B181-28699E8B3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D2DFC1-C71E-4C97-8EB1-8FDB77ECEA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EA0C9E-C27A-46B3-95C9-CC3089937A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8313D6-1730-424C-8E48-7F815B3E21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FC7E97-CA51-43E6-8A8E-99749CF857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B24DFB-4BE5-4428-AA92-13E9F8A43F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9F6AF0-8399-42AB-941F-C8D6DDF251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F4F2F-A96D-45B1-A28B-69B02658B3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0E7567-73CA-4FBC-8EA3-8D25042BC3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F2606D-0523-43F5-8772-D72746264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AE027D-E356-4D9D-8B2D-22B2F3C8CD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DEF15-5F2C-4428-96FD-0FFF5C827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B1D796-590A-4241-B386-6A5ECFAC6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66CD0D-466D-4D25-9CBF-6D36387766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D251C0-AFE9-460A-831E-18B9111BDB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8CAF04-F8BD-4C6B-937B-EF5E4A8324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479484-9DDF-4CB1-857D-B0132C6124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826D7B-6F49-4349-8A49-91C22E7003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F85FA-88AB-4989-A5CF-8A4422F5DC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5F540B-DFF5-477A-BAD6-E6A298533F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7846FD-11A5-469C-8F9E-1A27550DD0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867F6C-F4A6-4018-8056-CDA9E7301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B75F8-7D43-411B-88BB-0F71DA56B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358073-F610-4B39-8072-E52DE6956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B906C3-00C3-4A91-888D-AEB87572DA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F0FB2A-27C1-479B-88AE-98875D3BA0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11FD97-BC39-442D-8BF8-5E898607EF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914E23-2CD8-402D-8305-B0C0E6467A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8FF266-721F-4B06-8ACD-769C476F01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B3A79B-3147-4C95-B242-DA12C66DBE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A20E6D-3E80-4C1B-BCC2-77ABDC3F05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BE8337-C676-459D-B80E-8A7D96FA5E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0E00F6-2C42-4155-8204-66D79EC71A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5D364-CB0B-4DB4-AC89-27DEB4E23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E7F33B-CB31-4674-BF42-1E640A3651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15B5E3-A7B8-4E30-B0B0-FAF9BCC06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846C20-4063-46CA-8ABB-D2B2BF3738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AB64A-1D54-4C9E-AC0B-85550612DB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1EBE38-13DD-4675-9CBD-7F32D8D2B9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6A31BB-3FD5-41D4-8934-6D6C5CF2B2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8D78DA-501D-4D0A-A7A3-2A323DCFC1E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A7EE-0D9A-457C-8FCE-9463E0DDD0C1}" type="datetime">
              <a:rPr b="0" lang="en-US" sz="1400" spc="-1" strike="noStrike">
                <a:solidFill>
                  <a:srgbClr val="000000"/>
                </a:solidFill>
                <a:latin typeface="Arial"/>
              </a:rPr>
              <a:t>07/28/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3C22-9A67-445A-957F-8CCC493457C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2591-598E-431D-ACA8-EEF2B32ECD46}"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8955-489D-407E-8478-0BDBA86F1772}"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FE8E-7CFC-41D0-B4AC-882CC21263B0}"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1BBE-2442-436A-8CAD-030CFB601A29}"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1C65D-223B-4073-9913-F07F89E89C71}"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45149-173B-4E50-9DB2-CCE231317A6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AE51-BB88-4D06-8783-1F1D369559CB}"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7B9D-3802-4267-86F2-0B73A5C496F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F857-E711-47B9-9A10-3F6532B823CA}"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4B70-F074-4312-9640-2F6BD5F19C1D}"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4A17-DC83-4EDB-8E89-0FC3198D2D98}"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6A91C-5E8D-43AF-BB84-91F6AA89BB3B}"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25FD-7848-4EF0-BC0B-554B2784AAE2}"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1BF9-092E-4871-A1D3-2F521684447F}"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9F2F-E4E4-48F9-86CB-954EDD031A4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5937-E584-45F8-9313-02EF2F54B1C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443E-3183-459F-A6A1-AD3C0A1A621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5604-D380-4ABE-84C2-F865B1AB673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8968-EFD2-473E-AA37-37E3D1F0C37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98E1-AA5E-43BD-9588-D9719B6EC93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E52F-112B-405E-95DD-E7D37569D20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55D9-E8B3-4A3B-B71F-57B62FC4302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5359-70FE-49A7-80E1-65CB15B0B17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330A-8C8A-4226-AEB0-67BDA077962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508C-6AF8-49A0-A677-5AA6A1D3254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1EFF6-B84F-442E-8672-4E74383FEF6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08342-C191-424B-B3E3-BB2A281CAE1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5ED4-66D4-4BDD-972F-E14930EF87D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3BC9-D266-49C0-8100-FD3879BD983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F050-1676-4954-B4FB-A71333F78A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E8C7-2F5D-4278-84C4-8ECE255AB46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C2BD-0333-4F91-9E41-FD4426AFDCD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A639-DC4D-489D-A2AC-FAFB19DF787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A747-E60E-43EC-B1E2-A1C9B5A424C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874F-C934-4F98-B9BD-1543B854F3C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B94AA-45DC-4C61-B379-F797EE25B91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04C9-85A2-4E07-B3B8-40D27A9EA2E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0FF6-E02A-485C-AE70-CB8765C6C68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79D4-2EB0-4414-BD5B-5E39347BB0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4F1D-B67C-4880-A32D-117E1804562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A68E-8FC8-4407-BFF9-1A27E9497A1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D14F-43B3-4132-BD6C-284FE8901E2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A570-D8C4-4A4C-AB5E-C33C1C3275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AC94-FEE4-4610-B45E-CF09A902E99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9557-2354-4F79-AC3F-5A6F3B8408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F0DA-434E-4726-B5F4-B44ACC450E7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89E3-B545-457B-A02C-0D6F805CA4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AD1D-5A36-413C-A5F9-C00FBCF0464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B910-2A18-4B1B-83D5-4A5CF14F984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3578-8D12-4799-B53A-3C2B76EB21C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ECDC-6CA1-44D8-B439-151B0C421CE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BF87-9688-4436-B32D-412238C9740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1B01-0F40-4109-B8D9-8C037EE6C9B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3884-7E08-4D36-B2DE-6F5ECD49C05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16C8F-DA77-41E5-BFB4-BBB8E803D22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E421-F5E7-4472-8AC3-F0490E8317F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A78F-A797-49B5-A685-72F99AAE82E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A525-10D5-49EF-BBDF-3A1DA35FDE9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DB960-90F4-49A6-9965-33427F1C851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FB7E-C92C-42CA-944E-F91B1929CE5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80324-A923-4D36-B2BD-34979EBD3D4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EDAC-4EB0-41C9-B15F-0763DB40135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