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60650EC-6935-46C9-9674-2F4AF46EAF2F}"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BC399-6B65-45C7-B649-395187AB5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472A6-44AF-48C9-ACF2-19132A656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CA88C-AFB6-4258-844C-9146F29A8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1B9DD-63E8-4071-95AC-917416C0B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DD36E-F3EA-428C-903A-0F5EA5F0B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A8B99-5754-4358-972B-3F8E1F2AC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CA5CA-83C9-4AEC-9B49-B3266E70D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1A8A7-E6EC-4924-A5AA-1D7BB915F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388AF-AE5D-43D9-95F4-ACEE2075E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54BAA-A93F-45CA-B49A-85890CE00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400EA-CE4D-46FB-BCF1-56F9D241B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093B9-2A29-4CBC-9477-CD69E12AF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00D17-159F-4272-A5C8-959D8F71E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A5F2E-CBBA-4448-BD37-2CD123379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DF64D-7109-4FCD-9C4C-E20E0BFB7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8F1E4-7EB0-41DF-8497-810DFEAB6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46D10-AEB9-4401-A4FC-625EFC5D3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3F513B-AC18-407C-9D71-9108148BC2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B48A32-1CE2-4DB3-B279-834A49AC19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ABC90-CFED-4239-9FB4-29D01E7D96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6D8E3-66A4-40C5-A4ED-6E4216DD30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3200A7-0B3D-4C20-84C4-C657931945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9BBAE-49A0-41B9-A49F-696F6FE07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6346D-097C-436B-AAB4-9BCC54C46A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1C1C4B-6D05-45D9-AA38-8E30296D6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7090E-2592-436E-BC99-5D8FAC66B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48603-36A9-40B0-9116-32440C515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F47D10-6BB5-4F3A-9F60-1A2F6C6C4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B8961C-4A41-462C-AACE-5F94767EF9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9CCB65-C34C-488A-AE9A-BC9354813C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527501-7763-4AB8-BA7C-870BF9F810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069DE7-AF80-4D0F-8E61-EBCC03BD83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57258E-42E8-4B0D-B3BC-9BF39F724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92F54-DAEB-4F3C-82A5-19F80E95C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D0CA1F-8C8A-4ED2-827F-5392BD886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39F0E9-7986-4D0F-828C-2B2844D504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C20C18-C2B3-4737-A734-AD1CCA91BB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CE1AA-3DCF-4CE6-B76E-C1942627B1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631FA-1209-44B3-9424-019764E60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465D9-5A99-454C-B285-50A8CFB3A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E2ABCF-B62E-46C9-9521-126894112E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4F01B8-66E9-4BB8-AC15-1007E6F95B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7A4B04-5F1F-41E5-A127-4E756242BE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9F7A2F-8100-4255-885D-9EB202B3BC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38E0D-8B8F-475B-990E-9D40CD525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028728-16C2-4FCE-9C7D-7030FC7E62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5B64AD-EDC3-4706-9CF2-0B78E2D83F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1F1CC1-F5BE-4E59-98A2-B8D5ACFA1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53DD41-8F7C-4335-B2A3-F32327E2C6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F6C6E2-8420-4C45-B580-5BB90181E6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1A392-6D8E-4B4D-8995-1D7E06A7DE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A6C0B-0778-4058-98C8-8C89B0AE3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F60D17-26D9-4F73-9AEA-D006AFE2A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431AA8-DFD6-4A59-A22F-8F8419DA7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00F9EC-D51D-45CE-BEDE-04447404A7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911FA-015C-42E3-813D-6E06AE45B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61B2F7-97BF-4CE3-9A39-AA8F186E64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9C26EC-6381-4A54-BBCC-65CBA7F6F0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DAE7D5-5772-45CA-B153-6C69F8AA08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D02F48-B0B3-4285-B178-D76D1460D8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CEC26C-A542-45F0-94A0-C5D4600CEA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64DB3B-BA3E-453F-BE2A-4079229392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F1A3DA-9DE3-4483-A6CC-B4D79A9230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AAFBD-CC60-485C-8343-1746EB760E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C602C5-61D7-431C-AB89-2A1E803648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83FDAA-0402-46BC-8FB9-5F454CD3F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101A-9787-4493-B22B-AE4689DAA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B0F9BE-D9F7-4D30-B6C6-0542209FD3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5C04D8-A605-4D4F-861E-B18F63FA40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935849-39E1-4625-AEA0-94A3F62870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23347F-A9EC-4334-826D-6E9781CAEC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DA8D36-4ECD-4251-BEF1-22079C62AC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9F2004-CC9F-48B3-BCA6-944123CC58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3A95A5-E3E2-45BC-9452-8F1862AE66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8637CA-C5FE-4788-9AAE-807D663199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C8A938-9607-49E1-ACE8-3E8360AEB3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E6F6A-071E-4C57-B453-BCBBCDB009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F65B4-81BC-41D9-8239-2DFB81AF6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E9E62-8269-48B8-9882-393E6DDAD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EE9256-3E2C-4B6E-85CA-9C516078BA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BC2F50-432E-4CFD-A55A-49B1A9EACB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D8B005-2851-44BB-8F4F-39289E32BF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73E1D8-0BCE-4A44-AD75-927E5AC7CD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679867-1952-4D5E-9079-3CE25ACD2C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F26B83-A51B-4ECE-B8FD-43EBB7A481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FBD4D5-AFC0-4CEC-9FD7-2F97029EF3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BAD598-9175-4CC6-A56C-E1207C55BE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2E0F32-2E8C-4E11-86DB-D4CD79B00F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6CA13-9FA4-4BBC-B7C9-20E69FBFF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6A2C3F-032F-46BE-95BF-A8CD5BCA6C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896E89-A31F-4278-88E4-9B9B3BA6EE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82106-F4AC-45D0-B6AD-F3B4798D70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408F9D-B91D-4C0D-900D-9923FE651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904DC3-3C36-491A-B6C5-04A6AAD7C3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83462C-533F-48AB-95A8-BCC7A4EC28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196DF8-28A7-4CD0-9FAA-95288D8CEB0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724C-F182-4039-9DA1-D25E33411014}" type="datetime">
              <a:rPr b="0" lang="en-US" sz="1400" spc="-1" strike="noStrike">
                <a:solidFill>
                  <a:srgbClr val="000000"/>
                </a:solidFill>
                <a:latin typeface="Arial"/>
              </a:rPr>
              <a:t>07/30/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C923-560F-4F9B-9DBE-32364266D5F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9FC7-947D-43D5-A277-F267C660B21F}"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2B2E-306F-4EC5-A06F-304A9EB1DB0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7BAE-EFDE-4A81-B7C8-CC76A153C751}" type="datetime">
              <a:rPr b="1" lang="en-US" sz="1400" spc="-1" strike="noStrike">
                <a:solidFill>
                  <a:srgbClr val="dde9ec"/>
                </a:solidFill>
                <a:latin typeface="Arial"/>
              </a:rPr>
              <a:t>07/30/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91B1-9D87-48CE-B606-1AF600B373E2}"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A96E-3469-43A1-B7A8-7BC85CE07AAE}"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0D19-9CEE-471A-AABE-72698575415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409C-3EC8-40AB-948F-1DC821470209}"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EDF4-5B0D-4637-89C0-BFC74C31E0FE}"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4A8A-9ECA-47BF-9FB4-A7CD9E0635D3}"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79DF-69E7-45C2-98EA-E8EC7A6DED86}"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33F7-CBFC-41DE-9840-DD56D971B31E}" type="datetime">
              <a:rPr b="1" lang="en-US" sz="1400" spc="-1" strike="noStrike">
                <a:solidFill>
                  <a:srgbClr val="dde9ec"/>
                </a:solidFill>
                <a:latin typeface="Arial"/>
              </a:rPr>
              <a:t>07/30/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906C-E31A-4BEA-BBF5-C55E7F70F2AC}"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C347-DC64-40A4-931D-282065AEE401}"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C69C-C8CE-401B-BDCC-F07B46592CC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A49F-C8B9-4D1E-9233-716E45E90EA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4DB6-7678-4600-B650-1094E64FF91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481B-1F39-4B27-993E-0A8937730C7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6162-C447-4C1F-AA3B-DE4B67CAF4A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1343-C4CD-45D1-BD51-134B54C83B6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AB24-AC47-4124-8FAD-81F6CD7C6C1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4C23-259D-403C-9865-F66ADA6EDB8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3D4B-714E-469A-87DA-9078F2BCA15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B9D1-17D0-4447-8AEF-F682035C62B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4383-F1FD-44FC-982E-85DEB84439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B13C-2E21-4001-8CCE-7DBA5CCE89A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A494-507A-45B8-A5CE-3098B13C0D7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D39A-75E5-4C39-9939-9BB1B4C16E0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663A-737C-4F98-9953-12D61EDAA4B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692E-4A39-418E-A401-6660F792BA7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CEF2-6617-4005-B406-82062A48686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DE66-5263-44C2-85C7-E6BDEBFCB28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15E7-4F2E-407C-9095-5827B1BF876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2968-45FA-4768-B6C4-5B471488451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0D50-C1A3-4968-A147-7A9599E2B26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7A1B-BAFC-4208-BA87-83E2C04CD4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E023-9586-4A47-81C5-E7F476ACA02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B0E3-8D0F-4E17-A6D1-AB5C34A943B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D18A-9914-4FF9-95A8-E9337E6C393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DFC0-52AA-4D6F-8CD6-267CC720587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6534-8077-4003-AA48-EB0C41A9EB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F069-1882-404A-9565-F048D8F1F3F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8D38-F4C4-44FC-B247-164E3FC4E07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2598-A792-4EF4-9548-EA009ECF68E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BB2F-AA1F-436A-9B3F-F3999A2E493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40A1-6352-4823-ACAF-F8503F7E48C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AD65-0DC8-4AC3-A414-EF956296F12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D104-D024-4659-87AE-87CCF6CFD46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5B28-BF8D-4C43-BA57-4EBC0A4B9E7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C3B6-4FF7-439C-BD46-C5F5FA59972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7566-A546-4F56-B3E4-3A52FB2CE91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1C6B-237D-40CA-9133-C92E307E56A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6E82-2CFB-4AE3-9770-849D649A48B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398A-C024-4A9A-915D-84A539C38BA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B57A-E4A9-4271-A969-80DBD99A377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A78F-084E-4CC6-9A9A-432B3D06758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E9FB-3925-4D8E-8F81-51542452C08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9AD9-B433-4089-8282-8A364275EF0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8927-6F6D-49CE-9632-A2D37FE4DC7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F5CC-5797-417C-851B-4FE20F4E7C1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0682-FB97-4BAE-BE74-3A54379A092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9068-4ECC-44EC-9B0F-F5BA3686DC4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2D89-6E6B-4172-B61B-DC4886D3E85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