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50BDB7A-81FF-4B5C-8EA4-8F79CF1044FC}"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585EC-7237-4D58-A41E-C202271DC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F7850-4A00-45E7-A3E1-DD1A35A5B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09D70-A2B3-41D2-9C93-61EB9A01B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D9331-0B47-4B74-94EA-7F94E136D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C2F4C-CD0C-4B67-A5DD-4660B1557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242C0-CE74-435F-AF52-A975A1296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ADBAF-AE90-4B70-B726-BD0761699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9AA34-B271-472A-B8D8-76C535DB5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C2A3E-AB95-4B53-BE26-8D514A6AF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CB0A6-11CF-44C2-8A14-D9161CD8D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FAB82-1DDA-45A9-9D23-F738AFB1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066F3-4F63-498A-903C-FB3A5E5D5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4529B-2934-4EAD-9ED6-07E2BDA3D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B89F7-5E1E-4303-8E21-5E164C9A4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18C54-DF53-42B7-9A78-C9014E634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8FCB47-7ADD-40B1-A7F4-77D79C3802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CF3F2-2FFF-41B9-B5E8-D8497691E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D322B6-53CE-40EA-B72D-25A59ED81D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D3422B-99C9-4855-96FE-A616175D5C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36F70A-AF41-4C83-A89F-2719FF280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A4FFF5-CFEB-41BD-B5DA-55F4282839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16B35-A433-4DD5-8DBF-E2705ED035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5292C-8D28-4D4A-8386-290F490CB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78F18-49E2-421F-8ABB-BA588D46E2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BCDA5-9603-46B1-B0D5-185D828E0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C97E1C-A5BB-420C-B324-6BF973417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440FF-C186-44C6-A69E-66BD307B3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CDC744-53ED-4557-A9E9-B88F81686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DFD898-B95B-4D13-9888-720E71E46B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0076C8-B4C6-4E48-8F35-0FF6B78201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D3052B-5A13-4DA2-9428-29A1DB5F54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A5CB68-53F2-4811-9B73-8C1FB3A6E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0AF903-E5A0-46E7-9464-338E0C661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ABF17-9C9C-496E-96BD-A7562D161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2E4FF8-E4A7-45A0-B3E6-555AD32E3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435E39-817C-481F-8791-827B55E9A5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B98323-9FA6-4D79-8094-D62895DE4D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1102E-3808-4D46-A60C-BEF3B3BFF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15D16-E83D-42FE-BE04-ED0716B9F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F5589-D061-4091-9A42-298FA25E5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CBC395-4305-4AE8-8A0B-02A2E92951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C021F9-F0EA-4294-932D-A1A39CA2ED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D7FA1E-0272-458A-A2E4-36E04FFF9F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EC8F92-7D01-474B-ADAF-D45B8B2739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CAA56-84D8-42EF-98EF-DC626D6CE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1B98BB-7E14-405D-9497-F78885039B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CC74E8-A632-4EC3-B4A8-CCAA2B3D36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665C68-C674-477B-B0F0-FCDC3FF94E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EAD554-EB66-495E-A3B9-BBA2771D64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D689C2-01B9-4CD3-BE6E-566EE8BFB7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C6870B-10D0-4AE7-BAF7-A0B8F0D97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03AC55-27D7-4AF4-BF7E-98C5C2CFD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5F169-B941-479C-A9AE-90F5D4384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C023BE-CEDE-4221-9296-31593F4AA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A6CF54-85C1-429E-B5CE-281F35FED3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A2E20-0185-4788-AFBC-3DA469DED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44D1E0-75E9-4BBD-85BD-A3FCDCFC98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42F0E6-01FF-4C8D-B30F-C46D2C44AB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FCA813-31A4-4712-9602-3C80C6FE4E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64DF76-EE92-46E4-B557-F9165CAC98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609B5A-2182-49DA-88C6-A17D6DF980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CCA530-B284-4C0A-8CCE-D39BB4441F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2440FC-70EB-49E7-9F29-D9A3EC00A8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FE321A-0A2B-45AE-B40F-1FABA5BE4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97CCBF-F5F2-4D98-A200-9DCEAB20B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1D5C57-C5A0-4BDB-BEF3-83F44444D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C1ACC-963D-462D-A9A7-D547D42C3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F8462A-EC3A-4002-81F2-01362B0EA7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A694FB-36EB-42FB-875F-A220675208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C0DAFF-33D5-4E3E-BA9B-BE124F1A75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9DF7F0-113F-4BF2-91DA-1F7226C0E4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89A0E7-C73A-4C5F-820F-7AD1DF4A45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B80188-CF18-4C24-95D3-9F3F225768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1B85BF-D86F-4888-ABFA-C22AE7768F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D491F3-2559-4AD5-936C-5D219F8703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B9C90B-E55E-4527-BB3C-C00A501E47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3BFBB7-8ECB-446B-8C38-62FD483985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C931A-7D61-40C6-8DBC-E2CE9B4CA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4C31AE-5A1E-4937-BA10-D3B13F02C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108C1-A5E2-4D3A-BFC5-4780D3DAA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3CD82F-9BF7-4DAC-AEF9-4CEC6608D3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76B08A-1EE8-4509-8D00-7020FD40EE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F497D3-B7C1-409C-8A20-10AEC1E107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DAC5ED-92AD-489F-98C8-CE4364D4E9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F795D5-E4A9-4BA5-8ACA-3CF3E40056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131C41-917D-44A4-A960-4D39862B08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D2402D-5B9A-4618-8D33-08072086B6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EFF581-3F56-4D13-838E-7F6D080943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94C03-23C4-4243-B75C-468304E57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C3A15F-295C-4AF2-B6DB-B03831C139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2610F5-9D07-4555-9111-C399CC49E9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4AE030-1A13-49DD-A379-79B0D3A826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3FFFB-45A0-4817-88FC-E24B5AA3DD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7171FD-79A9-44EC-81A6-555F0D9DE6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DBBA48-8D23-432F-9D29-E8AF307851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1658D5-ADEE-41B0-B365-EF1C1ED8E85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9CA5-B37E-48F0-91D9-BD55E8003370}" type="datetime">
              <a:rPr b="0" lang="en-US" sz="1400" spc="-1" strike="noStrike">
                <a:solidFill>
                  <a:srgbClr val="000000"/>
                </a:solidFill>
                <a:latin typeface="Arial"/>
              </a:rPr>
              <a:t>07/28/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9355E-422F-4B83-AAC9-BAF21DA62C8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9A04-BA5F-43F9-A38E-FEEFA8E78E2F}"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B691-E47E-4A2D-B3A5-F6A835C5CF07}"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EBD9B-DC03-46A6-8FE6-216DBA1F53A6}"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5C3C-60DC-46B6-8DED-47C46D2EDD4F}"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2C28-4E84-47B5-B65A-CDF11BD8D022}"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A60D-77BF-434C-9A6C-7B3CBB4084B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B023-C500-4EB9-BFB7-F00EE1E2B2A3}"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08FD-BF25-4E46-8B58-962653EECF00}"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DA931-48EE-4459-85BF-445661207AA7}"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2578-D963-47E0-AC14-CC58FAE609C9}"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F86D-8B32-426E-9D45-1EC89A0013F7}"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55C3-100E-44A5-8AA0-41AC970FA80F}"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B1B5-98F2-4E53-91E3-38D182783351}"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3D75-B3CA-49E7-B988-EA37CD64E470}"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752B-992F-419D-8D34-49E579A2B17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141D-2CB1-40BB-9D36-B77C06836B5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500B-3911-46FE-8365-C2E67AA64B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4238-AC83-4C02-B558-6674710D946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176E-1A50-4EAA-87E9-2DE2539DE7D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281F-7AE1-436D-BF02-685DF210BF4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7EC1-B429-437A-B848-C7E6275DEF1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2367-B994-4DB7-8BB7-0FEADB617A7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4623-A40C-40A5-A15C-AACC5AE938F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32C7-C812-4B31-AB29-318FDA3C3BE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2ACA-43D6-482D-96EB-CF6477B2E3E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DA78-F76D-4CF9-A2CF-B26F8B3DFA8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0AE0-17F1-47BC-9D11-74AC506E501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7F63-68A5-4A97-943C-F7765283DF2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DC8C-0234-4A4A-A8D6-313AA8480B0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98FE-B2FB-4DFD-A6ED-843AEAA59C2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D21C2-35AD-4E4B-8CE5-09E08D07B5A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DFE5F-57F6-41EE-9070-25B5B656676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8BBF-8058-4999-A47B-830A88AFA8E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F386-E113-4D60-8C05-6C2164E6791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37A3-A17D-4669-8F41-B956762A45B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9482-417D-43B4-A4F5-B096454B6E7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0858-7BB8-4859-8511-74A655004A6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BA817-0DFE-4946-9F5F-9F161629654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2AB5-CF3B-406C-B53C-994D485C1FA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D103-AEEE-4D0F-B7F5-7CCC932E220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472A-2520-4AA6-881E-2B0D5ACE796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00A3-B759-4B32-9839-F34433D277D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45B1-05F9-4D4A-BF37-0E4891867C5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720C-B60A-48BB-8FB3-EEDD6D7C79D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2889-0664-4C20-952B-5227D97CA4C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0EA5-1FA3-46B5-AE8F-0BF0D717389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D3C6-76B9-4519-AF6E-DEE2441BF47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47F2-28C9-44D1-8BE5-75AE33B527D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5FCF-6DD6-426F-B3D7-78546E7CB6C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FBDC6-793A-48E6-A9AE-35DE90FEFD0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7366-DB38-416E-814D-C41F0C3C4A5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EE26-D4BD-42CE-B485-6E4A00D31D6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005B-3FBC-434D-A9AE-67928622CC2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59AA-DC5F-45AA-89B8-60EE3FC56E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AC80-2A9E-4BA6-B4CA-4F485D2F5AD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FBFF-7CC0-4616-B3B3-8CCFBC8067B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969D-ED4E-4D8F-8136-AB310767E47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7B50-EC8B-4088-99C4-5DEC6F4536D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8449-83CD-45DF-8108-CEFE1D0D987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F190-D4EB-4379-BC00-2809EC5AA79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088E-44C1-4114-AAD3-7AAF90B266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F910-F305-46D8-B295-DDA1D2597B6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