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26A723D-8AD1-4153-BB3A-C671E81D6841}"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03049-FF7B-4030-87EF-2CF14BB74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28F6A-624B-4AE8-88CD-6DD302070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9E1C6-5F04-46A7-AF96-40C828A84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B698E-3DD2-4D95-A8A9-4872D8390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CC87C-F285-4544-A86D-77B55BF41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90CDD-4D6A-4BE4-942A-48E79599E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8CF02-0196-4A72-825B-C1E8B45AC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AAF13-7970-479E-9CA5-C1BFC789C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E4D26-3468-42CF-9FAF-15DC9CDF0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4398D-A2FB-420B-AC04-D5DF74AF6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90DCB-1F40-4B2C-8C77-710291797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9923E-B5CA-4974-AEBB-4A775F100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F1A62-18B3-4186-B426-4341CA7C7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C72B8-6AF6-480A-B6B9-BC2EAE9C9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5A10D-C10B-4A40-963D-7E655DB98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82D9B-F4EF-4732-8E28-3E5827978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53E96D-1D3A-43BA-A8E4-04A65482B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77C286-5378-42D3-972E-B7E41CDA73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7CCA19-8555-4158-9CAB-B04883B9AE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34BA84-9EB5-4DEC-AFF9-29D3CCDB9D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4F0086-1181-4AA2-9D55-8F2A835C4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093A9C-CD31-4251-9686-F9E70AC1EE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65C05-D04D-4B84-9055-07816CA89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0F18CB-FF36-459A-946D-E78458D499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AC4EE1-F55C-4407-8D89-F67D05FA2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2CB09-9A74-48CA-B566-3488AB744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43787-9EDD-466E-9E12-738DC530C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65AD3-11D4-42D7-AFFD-A05B182CE0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0233A-258F-4FB7-90CC-4F26855BCC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4119AC-AE0F-48C6-9CF1-ACA874B215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BF1A9D-F264-442D-B7A1-AB084A22D8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67CB79-14B2-48CE-83D9-F16B64E2A7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C74D1-5CAF-4D45-AFFC-F997EE3E1D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EE8F7-C3ED-4C99-BE49-D542090A4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42A0E9-54E1-43CE-9D0E-33CF942B8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789B78-A77F-4250-A06B-77CE2B1023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515C7-8FED-4BA7-8FB6-BFFB12E30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9186C-BAD6-4BD2-9F5D-823632AED1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ADE2B-150D-4A45-B92F-4470B6657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2F5281-9342-4808-B131-B3C03E302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3050A5-8684-4935-A692-243B2021D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8692CA-D63A-4F00-BD6D-4CF83BF256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F33673-1206-4219-A148-34559B9AFF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EA1F21-AE17-4647-8211-CA38ABC7BA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07416-2346-405C-B087-CF29A0D4F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BFF66A-6E12-46A2-B440-58AD92B9F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296BC6-6963-425C-8207-757BDCDB30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259FF1-35B7-4469-82F4-8E0CC699FC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1D4D90-817F-40A6-BD6D-FA0F20E0F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2929C5-3A4E-4ABA-9BA0-1B29673898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E48BA-985D-4C27-95D3-3C325BE140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94ACF-57D7-4AAE-8682-208DCE06F5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C2451D-8B38-419E-B1A9-EA3D4FBBAB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5D8FBF-729D-42AB-A500-626AEB56B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0CE3EC-1D64-4464-B525-54D4F7B9FB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9BC5C-917D-4C24-BC5A-62FF7DB76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FC232E-EB83-4E0E-B4B9-A810D068C6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F80DFA-A3E2-4C60-9204-5B1F9CD46E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932876-97DC-4DB3-95FC-44AA7648E4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1795E5-5BF4-4D1C-851C-5849CFFD3C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A387DD-96B8-40CB-AB6C-56F2DF9225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D41E80-F1DC-4FDC-BDC1-955250845D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AE1507-87E1-4FFD-9EAD-A3043ECF55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76C9F3-B0B4-40B5-A861-BAC61B29D3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52628-3EB8-49EA-9B56-93593B0528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1E4D1-EA06-4487-B2F3-970D8E493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4F7E9-9AA0-4A6D-AF68-C5408891E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103A62-69E1-43F5-825B-5E580939B1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2B73ED-AF20-4FCD-8DC8-4960DDC0E1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F3DE85-C65A-44FF-B252-67EF624838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E7BD10-2586-4F2D-9CC7-C05B7AF0E4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AD9136-17E8-4687-826D-C230947C2D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B97446-A97A-420B-9F15-D2109D1520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049D1A-F991-459A-A5E5-A8117AA443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E21408-E892-4A10-B918-AEC20E6E93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FC4B2C-9741-4B1F-8841-3A39C0102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4329D5-3316-413A-85DC-8A9E5800B6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922D1-99BC-4E67-A179-860F21907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8C74E-B488-4110-8F03-2AEC66DCE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5FC7D7-727C-48A7-B771-1C8FCB2BA3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CD6255-F91E-424E-A38D-B4CF41124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277F88-67AA-43DB-A22A-4DAF595143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35D98A-7586-40D0-A0BE-E17DCAC59A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6767BF-4D86-4FEB-96C5-56627146E1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FCFFE7-7165-4412-BA77-941EF464E0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B71E30-0A26-4153-AD8C-CD551CF64A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D5E3E9-354F-4582-9653-515B588A91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55E766-77AB-45A3-BB77-CF2A385FFD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331E-914E-4553-B4B3-712F68B62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79D330-E168-47E4-97B1-F7CD90117D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54C070-D043-4642-8D11-F23A77F776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D3F943-6860-46B2-A284-DA42D8E529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75395-E462-4057-810A-86A7E37D6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71A852-0613-4FC4-894F-3CD5DD0DC9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989E1B-8917-44A1-A26D-84D44DA6E4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7AFB1B-B93A-4442-977E-97E62CD12C4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87D6-0EE7-4DBF-821A-1BFE13642A07}" type="datetime">
              <a:rPr b="0" lang="en-US" sz="1400" spc="-1" strike="noStrike">
                <a:solidFill>
                  <a:srgbClr val="000000"/>
                </a:solidFill>
                <a:latin typeface="Arial"/>
              </a:rPr>
              <a:t>07/28/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783E-8879-4CC9-85DB-AE8C960C98E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2BB7-36A1-4507-AEBD-3666C927EC70}"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0648-4001-4EEA-9072-DA26010DF35B}"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7A5B-8CF0-48B1-BAB4-8594104EE9DC}"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AD33-92CB-4AAB-B974-E2A73B5A9C1D}"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731B-56BC-4227-9F8F-73AECF48E821}"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6532-5D91-451B-8D9A-C64460313B57}"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DA06C-9FAC-4C75-BBCD-7520C9F8ED38}"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385B-BD72-4F1B-A20B-B04F8D8EC7F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AD2D-99AB-47EE-B550-2BECCF922C4E}"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1506-71D6-48C3-BCD2-5BB7302EEF1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2193-6A3A-469B-91CD-85EB09B5157B}"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6BB0-2BDE-4B7F-B30C-19428449EA09}"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AE14-B845-4854-96A6-9343588267EF}"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04B07-0954-420C-8DC9-A3438DEB5A00}"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A69B-AA96-4B36-B9AC-7B935A6F260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91FC-A14E-4F4C-AA52-71ECA4F8BDB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2488-534A-4FE8-B5CF-C08B7C1FEC9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2F55-4531-4328-8414-88326FB128C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DC62-858F-4EEE-B965-25FF0FF70B7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4558-CA52-455B-A3C1-5FDB7FB58E3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FF8C-E693-464D-9EFD-0B0B6D53D0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2F59-F527-419F-AB5F-D8360548882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0A6C-07EC-4F83-9F51-576BC72ACA7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A52F-0642-4B2D-A4D7-8D38F36A950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4A9E-59D8-4C9A-9765-D67B46C4BE2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4D17-71AE-4DA6-B28C-73FB9F95F21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1135-0259-4EFF-81F0-AB21CE75F03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6205-5BE8-4664-8D79-7DD8859FD18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A30D-3F07-49D0-A6D8-7C47EF0DFE9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57EC-7EF5-48FC-ACA2-908AC682111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E97B-F813-45FE-86DF-E737C936EF6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6F88-B325-4266-88C8-A948A0D7F78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91AE-0C5C-416A-A73A-C7B652BEDA5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4D955-5E09-45E0-8C22-EDCF5117C6D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B26A-3B2A-44EE-84DF-D8E90B82DBA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E73E-F8C8-44B0-A077-B90A4257B29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8937-C796-46D1-9AC5-0EE983AF29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BFA4-3A91-4E5F-8126-C740F457062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3072-857C-4EF5-97EE-645F73B2596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3D14-A828-4DA8-B5B3-8BB47AC2BE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383E-080A-4107-A261-5B6556FFDF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AC6C-59AE-49B5-B96C-EF64A3B1A81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D03D-A71E-4E74-9477-2F263F71DB4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DD56-9026-40F0-874C-F1AA77BE8AD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8FEF2-AFA4-48B3-A8E3-FAADEE8E204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C2EA-8C0C-4491-A9BE-DD8297940F5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4E79-14D6-46A5-AF4C-6A174C3ED62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EA119-FE24-4D1F-9621-58C82CF25DA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E988-0C92-4658-B05E-0BAC00D3420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B309-62E5-4A69-8100-A5EF0C2A769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E860-24C4-404F-8AF5-196F58E5BB9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C451-1EFC-4CCF-9C1A-E798FF1D58A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57D6-E7F5-455C-AC9F-008CC290B82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0C56-9A37-46B5-8401-C551AFD51F8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D5F3-13A0-440D-B761-C982005FA73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C868-8462-4F2E-ADD4-1076BC593AF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E2F3-34A3-4B74-B717-B99CA3F1305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C5D0-AE81-424F-BE83-7031F18993A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DE0C-7ED1-4763-B163-955EFA169BD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99B7-F451-43E7-8F95-549B3ED59DA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A381-2D17-4B94-8F10-C2F150FF9E1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DD6C-11C9-4698-8DB1-A7F8A226FE0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