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334D-30E8-4183-872C-56627585EB3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1101-FA04-4699-B2DD-4FBDAE899A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BAADE-1386-4FEB-ACDD-5A118B4BBA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FDE8-D1E9-451C-951F-D0AE19ACA4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D671-C519-42B4-81ED-D68E11DCF7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ABCAA-6562-4D13-AD04-A55B523401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58E4B-4417-4732-B09C-94BA69E9AB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D881-60D8-4B69-9EBC-1C824001965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E9FC-C45E-488D-AFDB-CBC85D1D7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A205-E2F9-4D21-ADCC-12D828E76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13F9-FBE2-4EC7-B0FB-F6DD51BD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4538-6C1E-40F0-AD12-8EFFFDFCA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58EB-16FD-4078-BFAA-00F55DA1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AF72-4DC3-4E1B-BC48-FADB13D72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52B4-4538-4117-9E23-6B438478D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D30A6-6CA5-489F-AC7C-99D443ED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B45B-DC21-4C02-BC19-42F9FD087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409-6324-460A-8F9E-E6988D4ED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AC7B-8D0D-40B1-B86E-250B5BD2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E820-E839-4716-AA47-0BB5F8DFA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4DC8-5EB3-4EF9-B04B-3F6EC92102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900000" y="1197000"/>
            <a:ext cx="784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Machine learning models, methods and algo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1042920" y="3860640"/>
            <a:ext cx="7561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6666"/>
                </a:solidFill>
                <a:latin typeface="Arial"/>
              </a:rPr>
              <a:t>Vladimir B. Berik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250920" y="115920"/>
            <a:ext cx="77724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Arial"/>
              </a:rPr>
              <a:t>Research dire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24000" y="1341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Heterogeneous transfe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en-US" sz="1600" spc="-1" strike="noStrike">
                <a:solidFill>
                  <a:srgbClr val="00b050"/>
                </a:solidFill>
                <a:latin typeface="Arial"/>
              </a:rPr>
              <a:t>Source data              Target dat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"/>
          <p:cNvPicPr/>
          <p:nvPr/>
        </p:nvPicPr>
        <p:blipFill>
          <a:blip r:embed="rId1"/>
          <a:stretch/>
        </p:blipFill>
        <p:spPr>
          <a:xfrm>
            <a:off x="2411280" y="2421000"/>
            <a:ext cx="3714840" cy="1352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4"/>
          <p:cNvSpPr/>
          <p:nvPr/>
        </p:nvSpPr>
        <p:spPr>
          <a:xfrm>
            <a:off x="395280" y="4272120"/>
            <a:ext cx="8424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ample: classification of text documents in Russian using the results of classification similar texts in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hypothes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e existence of common meta-featur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ilar structure of data revealed with clustering algorith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■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imilarity based decision trees and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assical D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BD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8" descr=""/>
          <p:cNvPicPr/>
          <p:nvPr/>
        </p:nvPicPr>
        <p:blipFill>
          <a:blip r:embed="rId1"/>
          <a:stretch/>
        </p:blipFill>
        <p:spPr>
          <a:xfrm>
            <a:off x="1857240" y="1341360"/>
            <a:ext cx="4443480" cy="17701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4859280" y="3573360"/>
            <a:ext cx="3745080" cy="14544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1"/>
          <p:cNvGraphicFramePr/>
          <p:nvPr/>
        </p:nvGraphicFramePr>
        <p:xfrm>
          <a:off x="-108000" y="3357720"/>
          <a:ext cx="4857840" cy="22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-108000" y="3357720"/>
                    <a:ext cx="4857840" cy="22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Рисунок 6" descr="tree4sep.png"/>
          <p:cNvPicPr/>
          <p:nvPr/>
        </p:nvPicPr>
        <p:blipFill>
          <a:blip r:embed="rId5"/>
          <a:stretch/>
        </p:blipFill>
        <p:spPr>
          <a:xfrm>
            <a:off x="6012000" y="5248440"/>
            <a:ext cx="1655640" cy="142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324000" y="333360"/>
            <a:ext cx="849600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  ■   </a:t>
            </a: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Semi-supervised learning using multiple clustering and low-rank matrix oper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6" descr=""/>
          <p:cNvPicPr/>
          <p:nvPr/>
        </p:nvPicPr>
        <p:blipFill>
          <a:blip r:embed="rId1"/>
          <a:stretch/>
        </p:blipFill>
        <p:spPr>
          <a:xfrm>
            <a:off x="755640" y="1700280"/>
            <a:ext cx="73962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3"/>
          <p:cNvGraphicFramePr/>
          <p:nvPr/>
        </p:nvGraphicFramePr>
        <p:xfrm>
          <a:off x="468360" y="549360"/>
          <a:ext cx="799308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49360"/>
                    <a:ext cx="799308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3"/>
          <p:cNvGraphicFramePr/>
          <p:nvPr/>
        </p:nvGraphicFramePr>
        <p:xfrm>
          <a:off x="392040" y="696960"/>
          <a:ext cx="848052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696960"/>
                    <a:ext cx="848052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3"/>
          <p:cNvGraphicFramePr/>
          <p:nvPr/>
        </p:nvGraphicFramePr>
        <p:xfrm>
          <a:off x="390600" y="695160"/>
          <a:ext cx="8458200" cy="661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0600" y="695160"/>
                    <a:ext cx="8458200" cy="66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2"/>
          <p:cNvSpPr/>
          <p:nvPr/>
        </p:nvSpPr>
        <p:spPr>
          <a:xfrm>
            <a:off x="0" y="144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raph Laplacian regularizatio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142920" y="620640"/>
          <a:ext cx="8605800" cy="615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620640"/>
                    <a:ext cx="8605800" cy="615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2"/>
          <p:cNvGraphicFramePr/>
          <p:nvPr/>
        </p:nvGraphicFramePr>
        <p:xfrm>
          <a:off x="1835280" y="4437000"/>
          <a:ext cx="5689440" cy="1839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437000"/>
                    <a:ext cx="5689440" cy="183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8"/>
          <p:cNvSpPr/>
          <p:nvPr/>
        </p:nvSpPr>
        <p:spPr>
          <a:xfrm>
            <a:off x="395280" y="260280"/>
            <a:ext cx="8172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0070c0"/>
                </a:solidFill>
                <a:latin typeface="Arial"/>
              </a:rPr>
              <a:t>Applied probl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Classification of text corpora using transfer learning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alysis of KT scans: stroke lesion detection and segmentation using CNN and statistical algorithm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laining CNN with similarity-based D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Analysis of ultrasound  diagnostic imag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spectral and hyperspectral image classif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09:48:57Z</dcterms:created>
  <dc:creator>Customer</dc:creator>
  <dc:description/>
  <dc:language>en-US</dc:language>
  <cp:lastModifiedBy>ВБ</cp:lastModifiedBy>
  <dcterms:modified xsi:type="dcterms:W3CDTF">2019-10-03T05:15:47Z</dcterms:modified>
  <cp:revision>71</cp:revision>
  <dc:subject/>
  <dc:title>Слайд 1</dc:title>
</cp:coreProperties>
</file>