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C0B7-E729-49A8-9403-A8B61C3B64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0304-2810-47DE-BB52-E0EF2D6C58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9B42-AA64-4EAC-8315-6B333936F4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EF53-45DC-440B-84EA-AD16EF6AAE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0C62-E2E2-446A-803C-81531E7CDA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109B-B5F5-4B0B-A4C7-83A54F0FFD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BAA8-CC87-433C-8E3B-FC1FC4EF33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E869-9231-451C-848C-DCF4CB0D3F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CA85-F7F9-4C71-9E66-1E008B90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045C-267F-40C5-9913-22893828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9715-C015-48A0-9DA5-EC9920B7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8C46-BA75-46E3-B878-C20BF70B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2DD2-9228-47C4-A025-24B60A43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5BFA-664C-4480-9FDA-620E86F7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0EF8-B142-4A70-91F8-7DE74C18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4D18-02F9-4C17-AF74-9807CA9C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6118-5518-438C-AB2D-614EB427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D976-BEA8-4D80-B899-31F5798A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3C77-30F2-4A1B-8D01-41B553BC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8CC1-4FEF-472F-930B-31056A57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BDF8-540D-41FC-849F-7094ED46CA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900000" y="119700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chine learning models, methods and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42920" y="3860640"/>
            <a:ext cx="7561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ladimir B. Beri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50920" y="115920"/>
            <a:ext cx="7772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search dire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24000" y="1341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Heterogeneous transfe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Source data              Target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2411280" y="2421000"/>
            <a:ext cx="3714840" cy="1352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95280" y="427212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classification of text documents in Russian using the results of classification similar texts i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hypothe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existence of common meta-featu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structure of data revealed with clustering 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■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imilarity based decision trees and 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ical D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B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1857240" y="1341360"/>
            <a:ext cx="4443480" cy="177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4859280" y="3573360"/>
            <a:ext cx="3745080" cy="14544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"/>
          <p:cNvGraphicFramePr/>
          <p:nvPr/>
        </p:nvGraphicFramePr>
        <p:xfrm>
          <a:off x="-108000" y="3357720"/>
          <a:ext cx="4857840" cy="22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08000" y="3357720"/>
                    <a:ext cx="485784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Рисунок 6" descr="tree4sep.png"/>
          <p:cNvPicPr/>
          <p:nvPr/>
        </p:nvPicPr>
        <p:blipFill>
          <a:blip r:embed="rId5"/>
          <a:stretch/>
        </p:blipFill>
        <p:spPr>
          <a:xfrm>
            <a:off x="6012000" y="5248440"/>
            <a:ext cx="16556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mi-supervised learning using multiple clustering and low-rank matrix oper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3962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3"/>
          <p:cNvGraphicFramePr/>
          <p:nvPr/>
        </p:nvGraphicFramePr>
        <p:xfrm>
          <a:off x="468360" y="549360"/>
          <a:ext cx="799308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799308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3"/>
          <p:cNvGraphicFramePr/>
          <p:nvPr/>
        </p:nvGraphicFramePr>
        <p:xfrm>
          <a:off x="392040" y="696960"/>
          <a:ext cx="848052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696960"/>
                    <a:ext cx="84805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3"/>
          <p:cNvGraphicFramePr/>
          <p:nvPr/>
        </p:nvGraphicFramePr>
        <p:xfrm>
          <a:off x="390600" y="695160"/>
          <a:ext cx="8458200" cy="661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695160"/>
                    <a:ext cx="8458200" cy="661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0" y="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Laplacian regularizat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142920" y="620640"/>
          <a:ext cx="8605800" cy="615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620640"/>
                    <a:ext cx="8605800" cy="615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2"/>
          <p:cNvGraphicFramePr/>
          <p:nvPr/>
        </p:nvGraphicFramePr>
        <p:xfrm>
          <a:off x="1835280" y="4437000"/>
          <a:ext cx="5689440" cy="1839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4437000"/>
                    <a:ext cx="568944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8"/>
          <p:cNvSpPr/>
          <p:nvPr/>
        </p:nvSpPr>
        <p:spPr>
          <a:xfrm>
            <a:off x="395280" y="260280"/>
            <a:ext cx="81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Applied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lassification of text corpora using transfer learn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KT scans: stroke lesion detection and segmentation using CNN and statistical algorithm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ing CNN with similarity-based D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nalysis of ultrasound  diagnostic imag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spectral and hyperspectral image clas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9:48:57Z</dcterms:created>
  <dc:creator>Customer</dc:creator>
  <dc:description/>
  <dc:language>en-US</dc:language>
  <cp:lastModifiedBy>ВБ</cp:lastModifiedBy>
  <dcterms:modified xsi:type="dcterms:W3CDTF">2019-10-03T05:15:47Z</dcterms:modified>
  <cp:revision>71</cp:revision>
  <dc:subject/>
  <dc:title>Слайд 1</dc:title>
</cp:coreProperties>
</file>