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8AE2E83-4A79-4D37-B1B2-3C1D9520E32C}"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F15AE-4E99-4068-B4BB-CC0776431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E4D6A-043F-4204-A44B-13918702F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2CE54-23D6-495F-A281-2FC00D0CC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E083C-0CF3-4866-9CD9-B5B4D7389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6E0D5-B55D-4945-B9A0-2B0023F2D0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D8E8E-4A72-4F36-BD2F-4C05CEAC3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FAF1D-5F87-4F0A-B09B-E6AA09E6A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C1C1F-CD69-4135-B0CD-014824118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B903A-D228-433D-929D-640AAB5F0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63FED-7AD0-4C79-A27B-13851BF0C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CB084-2E06-49D4-B2EA-186D29EBB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43910-81E1-4776-BF20-36839D72C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36521-8270-4C28-9057-775F3455C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59AD4-1AFA-48F0-BD3B-F056A0487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27445-E44F-4710-9988-BD02DC4A8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0A1CEA-5A75-4273-8971-060D996E0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E16A4-2C98-43D1-BA31-6396BD32FF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22CE1C-F629-4A88-BF02-2988BA4FB0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0BB97F-BB82-4CC4-A7EC-D66B25782C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C056D-A5EF-4713-B5A4-4B5AABB06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264B7-AB4B-4957-8C80-8DD8268BDD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D3A26-ECA2-40AF-8068-E51E8CC2E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6FD67-8CCA-4FA4-8297-54EBD3ADE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0127D-69AE-4B60-BAA4-4B182EA13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603CE-98EE-4931-9D8E-886404792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27D52-21D6-4757-AF25-F7AB686CB7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A9B84-5970-4DB1-946B-E9609691E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53EB0-D7B7-41CC-AE3C-0E5B1AA2C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ACE844-8020-49EA-8B98-D753F6884F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1F4E87-BB96-4592-9078-DA2E077DFE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12BA9C-092A-47FB-BD6C-F43049AF17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4E079-33D8-4561-A414-92C6FE246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10BAF7-77C1-4C29-B7D8-CA53CD97D4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8685C-1D31-44F5-9260-7200FDFA5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7C6729-B80A-48D2-A942-66F4BC1F3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8CFAA-164F-41BC-9AF8-CF21B2AB9B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B8CE1B-DA1F-4A03-8A0C-7752CB456A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EB93DD-DEF5-4118-8645-F8B81113D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4B139-02BE-450F-8783-CA9F0EBDA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155C9-D0B8-493D-B2FE-2BFCE4A495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1E88D0-43D9-4338-979E-9662A0F14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F6602B-F1C1-475E-A96D-285821F776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5F0342-7D41-40F9-8556-1B2DF5E0B7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4CDF21-6164-4B1E-BA7B-339BE539AC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78E9C-334A-4C8B-BDDC-7D1D6B7E1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718EEF-3717-4336-8D9E-6701BB4DE3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9FF21-9AD3-4BDF-A7E3-BF320EAFFD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996A01-E226-48F3-B02D-BABABEC203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0977DC-E3FD-471A-97A4-28D115E0FE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9A8700-4BF8-43E4-A940-7A69FE0FE7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091EB1-301F-490C-A63D-BDA3C69D46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D1121A-B937-4EC2-956A-47B7D7343B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FD0E2-1248-4319-8ED8-DD0373FB68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9E0C29-516F-4AFF-BE54-AE25E8C644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FB75DB-66F4-460E-A7C9-40114A1D28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16CC5-CFA9-4C10-98AB-1090B3C07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CA99DF-1E20-4AF2-B84A-B47E64D3BE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DAEB0B-454D-47DD-A19F-356A9457B6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1043B3-4B9E-45C9-ADB2-0EC5315E92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2B9926-9126-447E-B1C0-D0DDBB7F0E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1DA2C9-A28A-4299-8648-B0EC361ED7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8C5CA7-E390-4443-82F4-7E1824FFEC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7E20F0-6752-441A-BE0B-2621F2B307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4CA403-415E-4E93-A5AE-5323301EFF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BB497-62F4-4F87-AC86-CD1B9CDB54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5769F-E5B1-4380-9AB2-366A10F29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4C7EE-8B5D-45DB-AB40-C9B30D23C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41D073-B85D-4CB3-8AC9-D24D6FAFD0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C6EF06-3FDE-4B35-A151-6E39595B9B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8EB8EF-346E-4DF3-A91F-B25C1F73A1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FBFF45-30B8-4EDF-B037-16F94155F7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A61482-BEF5-40D8-81D8-CA0D48D6A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CED176-74E0-4F0B-B3FD-FFDDD0D77F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589AC4-F826-4007-A5DC-252273E5EF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BC7E8A-65C8-4424-998C-35D7956FA5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97A11E-0528-4BB9-9110-CFBEF7B128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F8F67-089D-4B19-AE75-2579D23A48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A6720-5E51-42F0-BB36-B5BA77C3A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7CF890-FFF1-4F94-9A14-23B7F2C0BC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00424-7D8A-45AE-866B-DD7E12A89E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26A4F4-F263-468A-94F1-621A4A8CC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491BBF-F2A0-4DA3-9339-A82317F20F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54C9E0-679E-4CF3-96A5-091E8E9176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577758-D3F6-46D8-B5AB-991AD6B651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8077E9-191B-4182-8607-937C8266FA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A11DA9-75B3-4AF1-AD24-69F083E7E3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C9B2A5-4F40-4C91-99E4-FA56F4F846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13656-EBFE-49AF-90A4-D53412B374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E518-00D9-4DB8-A7EF-790028D24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4582E2-8C92-450E-B0B5-9A43CE024C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442EF-9B05-4F76-BFB7-54E37255B4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AC5236-4CBB-4706-8B86-6992D3AAF0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47384-7A72-40AD-AFC9-6EBDDB533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BF2468-839A-49BF-87AA-E1B076045F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4C6BED-84B7-45DE-ABC9-038B76A951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139B3D-23FA-4F0E-AB18-34AAA1A2AB8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9037-9DAA-4C1B-BB78-F847C789150B}" type="datetime">
              <a:rPr b="0" lang="en-US" sz="1400" spc="-1" strike="noStrike">
                <a:solidFill>
                  <a:srgbClr val="000000"/>
                </a:solidFill>
                <a:latin typeface="Arial"/>
              </a:rPr>
              <a:t>07/28/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029D-78FC-47EB-96DD-9CE1A9CB1E9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1525-65DA-4B3D-A735-A2A848F4D6EA}"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54238-F064-43D1-BD67-6078E9BA4361}"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F5E8-C854-4C49-A9EF-DD4A471B8D4F}"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A2A4-4CF3-4C44-B068-5C6814C22262}"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744D-2399-445C-926E-1204EAAE29AD}"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CB77-2987-4356-AD41-746D5CC99EC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A5AA-FFB0-4ED1-9233-D93D31AFC7BB}"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2A2F-471B-449B-9449-498B1845FA3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57D1-4AFA-49BB-B54D-C9DA24BDA239}"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D153-7634-497E-8E6D-B922ABCC5320}"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823A6-C061-4F87-B740-7596E2EE6289}"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FF13-FA6E-4ACC-9EB8-FE25FF9EC99F}"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00EB-1209-4D2B-933B-A6E4A74D5599}"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6AE6-3F92-4434-9AB8-EF3EB95CEB6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E3D3-8ED4-4F4B-8B6F-F5F781DEFEE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E535-E501-4640-8F4D-042275856F7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F8F20-4E18-40EB-8299-D9A6CB91C97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330E-F97A-42C4-B2E2-7D3B92E5BDE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B2F6-0476-4CF6-9E34-60DB3C80772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4BF6-FDEF-4C03-BC71-4014438231B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460A-8917-4A17-9A70-1CED2D28056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2DE2-1B9D-4531-B918-B744851ECF8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6A89-617F-48C7-AC39-64076170713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5446-D10F-4C0C-A581-F2C7960C7D9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129C-05E2-4490-9F17-6CDF326AB54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0DB1-A37C-4D31-B792-954E92BA21E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1314-72D1-4964-8588-8862363D5B6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05F3-E583-48B2-A9D1-7E40113B6D1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C2A7-D50E-4319-932F-65BC304CABC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00E5-2084-45DE-8972-094EB2E3128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BE9A-FA4B-4C38-95CB-23F133EAF1F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642C9-70D1-4183-A4FA-E815176EDA2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59CC-E352-4A7B-8BFD-449E784BFB7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E44C-6011-4E11-98A0-2F0D6AF5C37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B099-EB63-4DE6-92DF-0417A8C40E7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391A-5C17-460C-9957-3E95412AE1D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A4E0-6A74-46FD-9020-EF570FF492D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4BB5-5152-4ED0-88A9-2AE1AD5C99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F14D-351E-402C-9FA6-A8B74E242FD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1D52-B034-4CDF-9E5C-3C486F6AD7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7C98-4AE0-4021-82C3-3ADBF1B75E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4318-3BB7-4CB0-AA61-1F4D3B91A3C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4D50-648C-4F38-BD87-8E55E340D19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7F0D-E485-4A55-A21E-70FDA3C337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C718-9A6A-425B-9309-DE55BFEE278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B586-F7EF-4712-93E6-6FBB0D84F6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68B97-0858-4B74-832F-60132308CF3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8A90-C297-49BF-BCA4-6B4FDCAF32D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30AB-6B9D-41D2-B606-483991609CB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24B4-992C-49D9-84EA-38DAC3407D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A60E-3AE5-4A6E-99F8-923327910F8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F16D-F943-4CB2-9FD0-EE39A1FCA9A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8FC4-11F9-42C0-9FBE-EDC82C4D19A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36D8-F2B1-4917-A563-AE00A830499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06A4-9DF1-4EFA-8862-1140521350B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A1DA-60A9-4861-88B0-7967FF9ACC5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2429-618E-4FC6-9824-00232E25599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D283-EA0D-4312-9D4C-0DD2D8FCDB8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1688-6A74-4050-94D4-E2461F0E80F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C28F-D04E-4B65-9B28-06CCBE538A9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063D-E2E5-4881-8F7A-1A998D7C97E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7A6D-599C-419C-A871-7A1BC877822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