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67AD857-4322-48A7-8562-8F819FBC705C}"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B1B0D-58C8-466D-839A-EE66AAEE3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C4DD8-D42E-4435-85A1-FD151D26A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5F6E1-2A26-44FF-8131-5CF94CA29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491A7-99C1-4C6E-BFCF-B65CD289B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C1EBC-B866-4219-A19C-70C7C3E05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F7A34-15AB-4997-9BED-A7DBBAA76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9727F-C47E-4608-A2A6-161C1335D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8A68D-B4D1-4192-90B6-7F8B7A57C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71322-5E1C-429A-9755-66DA14049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73DF4-1BE7-47CF-951D-A0DDB9BAD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0DAC4-E3DF-4403-9B36-E3A1A3021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A23B0-B9D0-409D-B5A7-7179171CD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023E4-6811-4FC3-8FF9-5BE43D58D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200C3-8982-4ABB-986E-AA670CA99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31018-2D5A-4E75-9219-ABFA6EE8C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C7694-8546-4ADD-A10A-13ED1F892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A4321-A71A-4D0E-BE8A-9DE1BF625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F15239-342F-4C99-9D11-0C19A8312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363FE-E05D-4F5A-810F-3B9C2C87D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F5832-707A-4CE0-963E-75B291FE4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128AF-2F5D-4DF8-BCC8-8D3B1744B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6B649-7E25-48E3-A38C-66F0DEBED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75DC7-E8CB-445C-8B68-2E09C59D7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62087-B5AF-41E6-965D-56EA629FA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13891-F743-4768-ADA5-F1684B209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4D3C3-5069-4146-84AF-FB256ED41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2FDF4-7398-4A32-AB75-E43486E28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7FD2BF-E987-4738-8F75-4EE9F68A2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5EFF33-196D-4049-9BC1-354006CE86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A62AE9-32F5-49F6-B4F1-7BD1D8D154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9CB934-1385-4C5F-98F3-8EC660FF42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60736-5601-4160-9B21-DE98B3D6C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714A06-33CF-4723-A3E6-C565064D3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668E7-D798-41EA-AFB9-22A25858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2982C-5DBE-480C-8CE4-E2FB0D519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EAE05-035B-461B-9384-222F85D34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E2BB0A-1DC0-4E4D-B3E0-1F9970375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5D7BF-DD68-43DD-B06F-408DDB059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DC4D2-0834-4595-A554-889F972F7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D5951-EF39-49B7-9310-1F6CEEABF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564B5A-E634-4D0D-AA20-CDAE3D6420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855509-4DC2-462C-A2A2-B72880157B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3006B4-6980-4414-83FE-AE44456B4E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AB2D40-72CD-42CD-9853-1FDE82E852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547A-0C7C-4296-9100-458D510C4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432981-F379-42AC-AB25-10DD36DB24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85D39-D78B-48FE-BA28-DC723B4077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225707-3A3F-4EB1-A460-AE03C2B4CB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EE32C7-FE58-430C-9EE0-527A4917D9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D9E0DA-01F3-4C47-8E56-D7A682326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89BB5-20B6-47B3-9BA7-A2CC81DBB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7DE977-BB03-45FC-A63D-46FD75DD8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A1847-24EB-4D59-8477-DDAC0F7FD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64347-E949-439E-AAB3-4CE781E9CB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0A2D4C-43BC-4FD0-A2C8-A569D08CBC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4760-FE30-4CB5-83A7-7D76549F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F74F9D-73A9-4388-933D-2F205C12DD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DBEC7F-C10F-4882-8720-F38C1F7634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BFF7FD-32FB-46CF-A552-9E07059F94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689C97-D974-4DE6-8FF1-ABA17F34BB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38D88A-75AD-4173-9D05-880F7BE17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39C59-1ACE-46B9-9872-7B79D79551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B1317F-C168-4691-985E-BE4587BF9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9B459-41AD-4FF1-A71B-C0C1D790D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017D9-D968-4A61-AF83-8A2D9B772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FD75C8-6B29-44AA-80BF-C8A5F9F6B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39256-5F01-443D-8DB7-0AF91B95C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C09372-26E5-4C1C-B20D-D94D633E19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683443-8066-49A5-80AE-FDB62CF09A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D1D3BB-7497-4602-9CD3-5BB4C0BA92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89229E-DDFF-4B4E-8528-B22A3AB292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323A3D-C146-4C8D-923F-2670EAF94B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A398C8-11B4-440F-8DA1-EA72FF01C6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08325-1CFC-4572-A810-DEBBD7C6EE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AFE294-FB71-4255-A418-E57626B8A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D95F84-8600-4D57-98F0-2317F0EA06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09985-B314-40AD-A968-9D0706F74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620E-3324-4D5F-BBE5-3440022A7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F5738B-AE19-4074-8308-9E5A2235D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6D0E3-0040-410A-9DFD-FCDF8E5DFD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74E462-A454-4F7E-9CC0-3F767A4129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8AC8AF-D3C2-4F77-8B4B-16801A2B7F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7C85DD-B75B-4D8D-9922-360F977AD7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5B7FBD-4FD3-40A2-805F-8872691AE3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B0C2FA-4E2E-424D-83C8-69EC310E3F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52653D-D3D9-49EC-8DCD-D75DB3207B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2EBE0B-B581-4E21-903C-A73D125B54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0D3CA1-4552-4A52-83B1-671C8E7B3A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E40C6-ABD9-448D-9E9C-F4A673F6E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E63D0E-20DB-49F3-B5BD-0850B34307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ED874-EEC6-427E-A2B6-DE60070B4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3E6B05-75CB-4F6F-804C-4246588C4F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CE2F2A-5101-44B8-8DCE-BED07543F7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CEA557-9C54-4C61-89A2-3BC3136406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1D2E68-A847-4DA7-A71B-2C90A78A31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AB2D15-13E7-42D0-B21C-A129F7F3EB9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5942-C25A-4D54-A049-D6E32680F8E6}" type="datetime">
              <a:rPr b="0" lang="en-US" sz="1400" spc="-1" strike="noStrike">
                <a:solidFill>
                  <a:srgbClr val="000000"/>
                </a:solidFill>
                <a:latin typeface="Arial"/>
              </a:rPr>
              <a:t>07/29/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5200-C89F-4305-B661-CAB0643992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33E5-EF25-4898-9299-A12D8A6746FF}"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5539-5233-4F50-848C-4D43E7B9581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BDF6-D06D-4465-B9D4-F50C55388225}"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1DD6-D675-4875-BA57-4F0A34B3D9AF}"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EDD9-C83A-4A26-8EE9-352283FB3A9D}"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D1A0-007A-4766-8333-8959FA72DB6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F42F-6A00-4673-8513-A5BDDA2EC72A}"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4539-4378-488F-B271-569798B98ED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164B-772D-47E3-BC78-2FF76D80443A}"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30C2-47BC-40D6-BCA6-84E45908758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D89A-2616-49FE-90BE-F6F603AF172F}" type="datetime">
              <a:rPr b="1" lang="en-US" sz="1400" spc="-1" strike="noStrike">
                <a:solidFill>
                  <a:srgbClr val="dde9ec"/>
                </a:solidFill>
                <a:latin typeface="Arial"/>
              </a:rPr>
              <a:t>07/29/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8876-6778-4378-9041-F19ABEDEE6BC}"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F741-7CCF-4518-8101-FBFE8C3D65A9}" type="datetime">
              <a:rPr b="1" lang="en-US" sz="1400" spc="-1" strike="noStrike">
                <a:solidFill>
                  <a:srgbClr val="464653"/>
                </a:solidFill>
                <a:latin typeface="Arial"/>
              </a:rPr>
              <a:t>07/29/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F7B6-C133-4C06-928B-0DA1D47A49C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69D8-71BB-4E04-8CEB-31936C53207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E768-35CE-4176-AA80-5B390C226FB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0B43-B842-417C-AA89-F33A74FC75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E1B0-5AFB-48AC-A14F-07A58E74C5D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57C9-3FD4-420F-B17B-ED91CC4249C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1FF2-0D4E-40B4-9C37-D0001608AB5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5C0A-0662-47E7-A631-57D8E05FB6D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3673-49D2-4D2F-A3F1-5E7B6ACB065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5043-BA2D-4FC4-B458-E35AE20DC6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3CE4-395C-4233-B84F-EB921B5EEC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EC5A-612A-4B52-B65F-F069E393779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35B5-1121-41A6-8B85-72A74935513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FE28-F618-4C41-A730-BD993E67348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038F-7982-41DB-8D8D-959F030E608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57C6-933E-4820-81BC-6CB1E32D899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5997-B6CD-47CA-B009-AC6E6EA0204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1EE4-B589-4EC1-A53A-F2F97F3BD6B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112E-F541-4280-B1AD-31F7C834C7D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E5CA-11BF-4025-9B9C-B6603768A8F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5D4D-5DAD-4FE3-944C-B7BDF352AAC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D045-DF65-4C98-977F-629109933B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109F-DEAF-4663-A3D1-5A1A86C022C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BFC0-D5A8-428F-8606-B2D8D55D7B5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6031-9579-4ED7-A42D-691118B5B4F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8141-EEE5-4DB5-A201-26594EF2C72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C74C-8C37-4DCD-BFC5-B19C3706C9C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38ED-E007-426E-8503-1D3899E7619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D8BF-9044-46DC-81CE-35607B5CC0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C01D-BA3B-4078-9359-15D64DC977D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017B-7E95-465B-A413-342EE5BAFD7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FF50-17FD-47E2-AFB3-810405DFAB9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00CB-687A-4DAC-AB5B-BF09849E27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5057-3053-4D0E-A09A-CB757A0DA5A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5A7C-77FE-40A5-B947-B6E6921F9C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4D77-6438-4512-94F7-61BE91BCD5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FCF8-795F-493D-B65B-F4E1D2EEDDB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4F4B-D48F-4380-9EE1-7DD78C4A48A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0F95-70B1-4437-8673-2F8CD581FB2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3894-7F72-4958-AD01-B9423E1C1E1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4D4F-D4F7-4650-BBF8-97DBDDF5A39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4163-AB9D-4759-AC8B-A6B7CC01A8A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D2FE-EE82-4440-884B-FE807FB0A43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7061-155B-4B50-B353-E87E7F288F3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AE99-8736-4398-B8DD-4756F9A71F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6F9A-174A-4186-A472-4E7ED2C5CA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87E6-41D7-4A6C-B821-6E72B31D2A7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1031-4C89-445A-861C-9AD11AC076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A5F5-93FA-4D24-8BB9-1B9FFBDE6C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