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739E827D-29C6-433C-9E7F-56E8310DB823}"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0D5D78-B349-449F-B00E-C33FE3C3CC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2A3A58-ADD9-45A5-A920-1D977A5E7C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4455C3-EC96-4184-A315-89AAF316F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DD0C3-0F8B-4A7C-B230-7674084801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0FA92A-627B-4081-BDC9-5875608FCE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E023A-796A-43EC-AB82-E3DA649C96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98D43-F40C-497F-883C-EC61C5A846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3C209-AC55-424B-BE79-8A66C5D55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E536A-09ED-4F04-9BEC-D83D82ED93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67921D-FC4A-432E-9DEF-6021CFBE62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466170-AC1B-4ED2-9E50-F8C5B4E50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10A1D-44A7-4500-975A-ADF733A77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A395E5-2192-4E05-9ECD-20BAB7257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11FF5-613D-4FC5-8E3F-7043638A71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D63CB3-0D08-4FBB-A9DF-ECDA1A733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EA5F0-8F79-4AB8-B104-63401D9177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BC1AEC-6716-4084-9DEE-C31ABF0374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BE03DD0-022D-412D-9709-F6D1B881BB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69C815-B02B-400E-8DC4-2D1D1D33D1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3F637E-5B7A-4693-BB58-D04A8A7648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A85986-E868-4BB7-A245-64C80AD60A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92C624-BEDF-469E-BFDE-7127FC7EB2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87432-663D-40EA-8DDD-403882DCA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94E7EA-526B-4919-B804-E32CAFDCE3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CE0318-1FF5-4C2E-AAF5-E131EEBDD2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C94239-008B-429A-8F70-DB80FE74250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E61D5C-B156-482D-990F-A120839D34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7DE191-5A1E-4CAE-B609-E1234D2CC4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340AF8-0FC6-489A-B610-AA64285086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CA2A25-92E7-4646-933B-FB9E6A5A90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78A631-6E03-44AF-9171-689600D994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925F7-F414-4913-B3FB-69B18D9836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A529C1-56E5-40FC-BA2E-6086A9D46A3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53963-B0E4-4F3D-839B-9D1700685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252D967-DC85-4BDD-952C-3425BCA600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C4352A-515B-4A44-BD1B-46342852CD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A848A6-43B9-470E-8B7D-621318B7104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FC9D4-3D86-4FE4-B1C4-CD4FF9F2C2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6D9030-18D3-4BDD-9B5D-1BB84F144C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330E06-B6D2-43F5-8514-3FB7FF4154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6A7707-0A5E-4870-BF50-9F80A14B26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7AF3DB-8412-4F6D-9397-6461E39065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2BF1C00-2C31-474F-A6CE-3DF0D8E34E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0BE919-C340-4E54-99E2-4F86767A3F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D846E-E94D-48BE-8501-56BF38D6A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02AEB5-A144-4683-92E0-CC7B1BC7B6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8E393E-5759-4995-8981-E3AC100C027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D6254B-CE45-480C-AE3E-728BC1FF2A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0840D3-BE54-470F-B35A-43DAE2BBE2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4C420D8-BCF6-4BB1-B23B-0B751491F3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0A61F6-D307-4A40-BEB0-000F7DF384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B49214-6520-4EE5-8E31-1E18875576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31D32A-8CF6-49EC-915C-B3DC2F820E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9E13B9-E4DA-436C-B54D-AF6C68292B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05838B-66C7-4DEE-A4D5-A260003976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81371-78AC-4426-B54D-65E964CC2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3283B9-E01F-46E6-AA5D-27A3940717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FA7A64-71F1-420D-9665-C463231930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16D116-5B3A-4A27-AB87-DD8386CEBC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71780C8-D241-40AE-9D08-8923C54CC8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F092EA-65AB-4A15-A944-5561182B8A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D7791A-ED6D-45D0-9289-23B83409C2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327ACF-A1BB-4048-9CCB-26FE334710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946BAA-04EC-4FDB-969A-3B64C6D9B4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4F8EC2-9C13-46D9-A31A-691489C9FF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A64FA3-276C-4C61-BAC9-B50A444D0C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863A2-6FF6-4A5C-80B9-953911367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F82649E-702D-4B81-99B8-F7EFEB132F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D03380-130A-4BEA-8203-B18BAC48A0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7E65E59-1B4A-40F2-B955-3A9B054C32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FB6481-12DE-451A-A29A-A5CEF1D7457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F5E486-A969-4EDD-8C3F-3F78AD24FA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12442D-BEB7-45C0-AB4B-128FCBC7B5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0C9FE6-5826-4199-AB83-BB0DE89A6A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C6D9D04-CFAF-4BE7-8BB5-9CED579B1D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8A2E5A-F723-4189-AF2C-0C9C4BBD5D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F13995-701F-47A6-BA39-A4D691F2C3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4F3C8-522C-4F3A-94FA-A0B7345AA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8A50BF-0F5F-4292-85B5-F07387816C8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549E59-24BB-414C-AF36-B4A76A4392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D33A32-6A95-46F5-8C5F-A3916E0E48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B999730-2ADA-4CEB-964C-F72C519954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66FBA9-973B-4EDD-AE41-8F451183370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8C3C300-32E9-460E-8870-3BDD722AF5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707BB9C-DEF4-432C-B4C0-E031FA0D58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1FB489-2EB1-452E-AC89-E19EE9A648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9ACC1E-EBA1-4C50-85F0-0DA6F1C2D8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EF3593C-A648-4C18-B527-1FD60FE099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EABF2-47F5-4B60-8E58-ED045E7F0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1A4B7E-679C-476B-9666-A392640471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7E5180-88DC-426B-ABF7-D4F2223F5C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0EBFF4-9220-4F72-AAE6-145CE17923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D5C8AE-D5F5-431B-956F-8950738ACB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AE570F-1440-48BA-B0EE-3E043B1DAF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8608EC-2320-4A81-9E70-DF7A4DA43AC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57B8FB-F8AA-49C3-97B4-C224A6ACA33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89374-C2A2-4B9D-B6C9-6BC827514555}" type="datetime">
              <a:rPr b="0" lang="en-US" sz="1400" spc="-1" strike="noStrike">
                <a:solidFill>
                  <a:srgbClr val="000000"/>
                </a:solidFill>
                <a:latin typeface="Arial"/>
              </a:rPr>
              <a:t>07/28/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10762-1877-454A-A002-7728FB716BF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B5D92-5B86-46DD-93B2-1CC34C4F0943}"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42954-9D51-47F8-94E2-9076AB8E2C1D}"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304E9-18D3-45E7-ADB4-897032489088}"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F56AC-59DE-4531-8CB5-52F7C456907A}"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61EF6-D469-4F21-8EFF-778B21C0720A}"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492B8-7C4A-4F32-AA9F-F39FE333B489}"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C0891-9F25-4D49-850A-81139846E8C2}"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3A64-FE0E-40C4-B9B9-E019450B639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B9569-B7BB-436B-AA2B-C2F4901AF1F6}"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6094A-0223-4D2E-864E-3ADB691F3E24}"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BD94-1FE5-480D-A604-09D19C96796D}"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FEB35-3417-4CB8-8B31-CC2F66C00914}"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D0B1-FC6C-4B63-8B5F-11213C186449}"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7BB27-3512-44DA-B2A5-9E75A28A72A3}"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23F61-8416-4B7D-A9B7-52D0CE8FED7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19A6-3D32-4D10-A91C-B97259388BC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508DF-DB49-434E-9A26-7635C8901AE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39444-E8BB-4B1F-B3D5-9EF2EA700DF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8AA51-1D38-411A-83EA-C24B698458B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BDDA8-03CB-4200-8375-E8400676132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8B34-545F-41B7-8FF6-C931A3B615F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F2662-55F5-4852-B2F6-3A4BE50EE2C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8378-4CEF-4673-87D5-5DF361E1885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99A8D-4212-4735-A962-31DFBBBCCBD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CAE04-DFEE-45A7-9539-B8A7FFB48C8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9034A-2458-450B-AC19-79E5945DED9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63F88-23D0-4875-ADD5-226B64B32DA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197E6-E22D-4F9F-9E19-124FF78A282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6912B-AB7A-4F78-8440-17741C5C623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135AB-89C2-4BC3-8D6B-0E4943CB7AB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432F-44E0-4FA0-8CC4-90139166433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A7C24-B9EA-4A85-98A9-BF37452EFF8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089E2-4022-4802-88A0-EE08FA1DBC6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298DD-C5AA-4576-B581-545C17B6241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40ACB-2AB8-4CDA-ADCE-B622DB73398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030D-6263-4D7D-BE29-7D5C1251F36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69770-A468-428A-9B3D-44752F7CD39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2B9E-7A52-4944-A727-B30F32EB82E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4A00C-8A28-4BB5-B83E-EE73D2D1DAE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A0875-7EA3-40EB-8221-48816257BA1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F5E56-0CE3-43D4-A423-3AFBC2DC6D4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0E9FE-3EC6-4416-A8D0-779CA521557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310E-BA79-4B0F-9D99-474260BD773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4EDF-82BA-486C-A37A-59A4BBBC9ED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5ED84-48D6-4935-9583-7EF7A990A45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ECE8C-DA08-419E-8A9C-4217BF4FDF2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CBC15-DE01-4B14-8034-BF0997D431F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CE13-21F1-4FF5-96BC-1BC86BE402C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C86D-9806-433B-85D9-A97E8A9032A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42412-9D1F-4D17-ADCB-9EE9FACF419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A21A1-BC32-428C-B1B6-AB7260518DF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D232C-B851-43AA-BDAF-B0DD903C5B1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C3437-6440-4BBE-83C6-6F60AD5E93C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497C5-DBA7-4A79-96E7-ABF6CE8A677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0421A-6A44-49CB-ADED-52281544485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7545E-585D-4DD6-B5A6-922F02C0F0A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C44E0-C6D4-4A7A-81B1-975AE442A62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75651-1048-4E28-BA87-607E41DDDE2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05476-796D-4BC5-8302-8FA3E7B2D25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C1370-7DCA-4946-B9A8-37329210D37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BABBE-5468-4BEF-8409-FE8DAF6D2FC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A2993-9436-4C93-A1D2-B327670251C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