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853585A-686E-4839-A489-E4DC14A1D44A}"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F2617-7234-418E-8EBB-0E4EB599A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61D44-4965-4797-8767-23D14FF6E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67D9B-5625-4B05-9158-662C7D68D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24F33-4503-459D-BB3E-5773F69C0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ADB86-7FFD-433B-BE2B-286AC2FB6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F0B6B-2B52-40AA-9D82-92AF0B20E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195B5-50C8-480E-B68B-8CD18DA57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6A0A2-5761-4E38-A1C0-AFC0C41FB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BF499-DC84-4B0D-8740-30199E98D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BF9E7-35C9-4BDB-AA46-3B73AD1B8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652B5-E50C-4E82-AD52-75C1F6B12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D325D-C4FE-4654-ABDA-EAB01A235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9FF70-EAC4-4C42-8B95-1D6DDEC46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303A4-487B-4709-8A57-6C0AE2249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308DF-976A-41BF-A665-AA749870B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B1B180-8EFB-42D6-927E-4A6C54282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29EF0-17D5-4A69-934A-2C97B9989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FFE73B-09DF-4204-8202-CBD0B9696C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E335DC-BE4B-469E-A219-17655A3BA4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CEFDEB-C275-4F37-8364-476CFEF80C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FC7F1F-DCB2-40B0-8FDC-9290836A31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D99EE0-6793-4311-B2CF-3741D7D34D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733B4-0511-468D-BD8A-040F3F1CC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ED29B5-4F1E-4FF8-9ECF-A21D2BE649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AD8EBC-39DE-4AAD-8F1F-202F2F1EF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4D35F5-F9E9-4A0A-819C-3D5EF4DFA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DE7A28-CC02-4810-950C-8E2920F3CE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D4AD19-997B-4E19-A5F7-7ADE16C8CC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C4D8FD-3F9C-46B6-B177-F38883C96D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8623FB-3D8B-4DA4-B5F5-F6B7A3D683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F93B61-C199-4B5C-BCFB-FC4D4A5007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273ECC-0F5B-478B-9768-EACF07C32B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4E11E8-69BF-4947-853D-D5D6B54F7D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06691-B147-4697-BCE3-9CE94971E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F25C9B-34BD-4A55-860C-A564E03A08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C78965-6C3A-48CC-90D3-1AA10458C9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EBCB38-8B51-4865-BBFA-D98D4898D2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8297D9-9163-4A2A-9450-51D6A31ADC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9F6577-1C42-47A5-B5C2-0F354A339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C1C98E-A112-4641-828C-28B7DDACBC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D47DB9-C184-4B0C-ABAA-5AEFC07ED4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18A4CF-24DA-4D58-822B-51B7181123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7340EC-447A-481C-82E1-75B1B10650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B306FB-E0FA-453A-AB7A-B5FC43C9A2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80838-FA14-4C92-A5E6-550306352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F831C2-A231-4888-9A71-578A8B418F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91C4B7-B1F8-4B74-823B-C255783DA2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A0D987-3329-44D6-A183-DE94E21252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1C59EA-3164-4191-9F07-2E1BFF41B8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AB2713-047E-42F9-B94F-34538121C1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D92A41-978B-436E-A8D6-F2026AFD75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85C463-51A8-499A-B9AA-2A0B6B2FE6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018D6B-7474-446C-870C-E0454DC52A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99DC76-5782-42E6-AE12-64A7D13DC2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59AA80-DE36-4C17-8EFC-768B375C3B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9F01D-E25A-4C99-A851-471A8F70E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D5E74F-7070-450F-8C55-1BEAA397FE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CEF209-CDE2-4047-9F60-E0686A2459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7FA452-C3BB-4DB8-866B-6EE7C6FFB1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32CBBD-BB1E-4D73-8D0F-E2C48C9941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6B5051-0AAB-4D14-AD62-CA206E8AE4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99EB8F-1076-4841-841A-19FCBC0973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4F1EEF-0969-4214-AF4D-87986BB204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BA0EBB-EAAB-4188-9FF3-41A3508088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8D912A-24F5-45B3-A5CE-6547F1B3AC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B538FA-5ED1-4617-A91A-467D6BB737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8717E-1889-4CC1-A6A8-0C931878E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1460A5-9BA9-47B7-8249-1076A22181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6D03F6-DE38-4809-806F-504C4657E0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BB4AE1-E87C-4F27-88A9-911D6A1FD4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5ACE6C-9044-4D45-9C26-7E369295C9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2A5E56-E4F0-47C3-BB22-26712EF68D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E2A631-AA67-44F5-857F-154720686D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7DD384-D453-4F85-A298-1FBCCEB5AC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53666B-E5FD-41FF-B67D-B027109557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FE5AED-9D8D-4E32-BB43-6FC41A2513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71799E-959F-445B-B394-40123591B9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4D703-0058-4F84-A5B6-AE9742E1C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B2B2E6-C512-49CA-AC36-1CCA785C73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90EB06-9FCD-462A-800B-6BE1D1DE03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873FF1-8DCC-4A60-9ACB-A242948EC3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C1D914-3486-4C6F-B31D-88C8F99383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0CC970-1AE4-4C8C-8304-4F3C044CB7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B3FC1F-E9FC-476F-B074-603115C190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3F778D-A1E5-416F-A7F5-0DD949296D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052A3E-57EB-4537-8AF0-AE9F4EB9B8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149E87-8D63-416F-8B83-2112A6FCCA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AB6A72-FEE8-4C8B-9146-9F877525A1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2804F-8727-4FAC-A8E6-A1500C7D0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53E449-7340-41C4-8FB5-C492137324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75DF74-7BBE-4835-9AB5-C817D5BDC4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C43CA5-9412-4991-92F0-7F3CA607E8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6E9AE6-1230-45B0-B2BE-2F543FEA85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54432A-4BF4-4DF4-B44A-06F595FE28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2FC893-8348-492F-B9FF-B568F0580C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1D83C3-E207-4631-9664-25D5A6D7A95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D2DE-F0D3-4812-9654-681E2756A657}" type="datetime">
              <a:rPr b="0" lang="en-US" sz="1400" spc="-1" strike="noStrike">
                <a:solidFill>
                  <a:srgbClr val="000000"/>
                </a:solidFill>
                <a:latin typeface="Arial"/>
              </a:rPr>
              <a:t>07/29/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29B9-95AD-49D2-A39C-4F1591192F1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389E-477F-47A7-B4C4-08A894F42367}"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C894-B9FE-46D9-8FE6-D5A024EB60E3}"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59F15-3E0E-47DF-8F58-48DBF7213769}"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EDDE7-7331-4F09-BA8A-B53B7AFDAE67}"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B703-86D9-4445-8835-7997FB1B05C4}"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1DFC-09E9-466A-8798-F84ED8113D19}"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43DF-2BD5-4410-8B5A-0C170AB5FDC3}"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24BB-A93D-491C-A47B-596654D5F663}"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1D7E-CAE1-4161-9C17-0C2C98C0089C}"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2A68-1D91-4984-9F8F-FB51A4C902D7}"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1964-719B-4E5C-8599-8FD62B40DB4A}"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DF97-071D-4392-80C4-D5406FBD0A04}"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BABC-47D7-4906-ADE1-270984491F81}"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78F3-D7D9-45DF-995B-39033F7D9879}"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4FF33-06B4-4D40-A635-39CCD117553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2402-C918-4021-A391-CE531C2A74A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E59BF-FF58-4D1D-A7B1-AA36E4960AE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500B-764F-4D93-93CD-C60FDE0FE03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CE8C-6AE5-4C7B-8C46-9FB7E232D1A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DF29-EE81-498D-B5DC-3096358465C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80CD9-F134-471E-B4B5-77A9828F55B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44465-9EDE-49BB-A6B0-CA3407368E6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A48A8-B7FD-45FD-9121-5613CD13C9A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A2C90-1388-4FB8-999D-99AFE4A2F5D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9429-A10D-4E06-A411-6DFDD357E56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B73D-8AC3-41A8-B964-C09248CEAF5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8AB3-A82D-4B15-B3C7-6A206089E15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5C22-F0C1-4447-9E64-753CFCC19D4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B84B-4F6C-41D3-8A1C-AB07B1BF656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2AE5-EEE5-4F0C-B932-5BE2D332293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071D-C0A9-4300-8B25-B8A5AB8D1A9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7E6E4-2365-4E72-BBC0-AAC3CA2E6FC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646E-BAC5-4315-9DAF-62A92AE6535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A22EF-0C41-47BD-81D7-98072C72239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6B9F5-D9A9-4128-88BE-A1F7D130274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A975E-90FF-4558-ACE6-E47C4489504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EEDEB-B1EA-401F-80D8-F7F02FC3F48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232E-1E0E-4A7F-B15F-A989B7DB4EE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9300-75AA-4EBF-8622-B90B6082540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5E780-FC38-45DB-8F48-733A969650D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226A-72C5-4A9B-912B-A303064F11E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1103-9F4F-4FD5-BAC5-1DA492AE7C8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4EF5-1D15-4EF8-A605-CD47F8B3081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2858D-64BE-46B3-A38A-EC424F7DB0D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FA43-0DE1-4F16-A06F-2AD16EDC46D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F3F8-7956-4124-A064-067233C04F6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841E-534D-4629-A22D-FA0F0E17C81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4F5C2-4A3D-4D31-8B79-692399A5202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FFE1-F4D5-4A58-BC42-ABDDE6C5E74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1E61-69CA-4082-BC1E-A7E914E90A0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33DE-069C-4051-AE1B-24EFAC5A6D4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7EA2-4647-40B5-9D76-8ED26E8CA30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344E-4F22-4FC5-9CC5-913DEEB787B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3CBE-EAFC-4A17-81CD-9888E33F2D8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2E813-3A40-43D1-96E0-D3AFA27F748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3894-8409-4303-8EA2-65E21BE3F1C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7517C-1594-4087-B447-E27F2AED1AB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1B0C-1B69-4DA1-950A-D80AF25A47F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7688F-1263-4C14-85B2-37F32150BBC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9387-CEB2-426A-A010-D052275DBFA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5AD0-27BE-4D4F-969B-3B93AFBA7F5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9107-55B6-4324-9926-94BA6903EF3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