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64BB0CB-7AAF-4F59-8435-5A4D33C03B8D}"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24A2E-09D6-4487-8A1D-6B4938073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750DA-B38D-4DF3-BDF8-E1CF653FF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7E42D-D72D-4AD1-94AA-85B1F742E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9D15C-73B8-4467-8552-228F06F1D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056CA-A3F9-4F68-A522-D24E18BDE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820EF-7D7C-4B4D-84D4-6BAE5E442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F7E9E-538C-4846-B950-04FF4D456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F0854-3C88-4871-8104-DC2A79ED5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330B7-BC1F-41AB-A11A-D86C221EF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D65D9-023C-40EA-B8FE-415355B89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D3DB7-BA67-444C-B9E8-E2A4C45D1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B33AF-F500-45CB-A56F-C92B6A0CC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765ED-2327-42D2-9A86-E631151F3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A043A-82E7-46DB-B434-E8BFCEE42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D2146-1C50-430C-A32E-6829F9D53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799E7-EBDA-4FD8-83A1-B4B1E15E1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07B4B-BE95-4C08-9B86-C863CA41F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B6C1E8-BCEF-4AB6-BB04-3568C2B027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277843-5645-434E-9950-8C0D4AE227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6C2917-245D-4A2D-9708-35D9A49250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5E2A92-49DB-4003-B51A-CF62AF5678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07CC40-BED5-4660-AC59-AD4B5DD10C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182FE-CD63-42CD-BACE-763C0F069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3CF9CC-DD2B-4EC7-916C-35FF3350F8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4D4CF-5D9D-427C-9A70-9D44BC13B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465A7-A28E-4B21-998E-616C51D230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E62AE-E058-4FE4-A496-DF4841C06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2DCFA-A983-4DC2-AE5E-70D8E1175D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B43A2E-3CD5-4FA2-A928-DBB0AD536D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6BE4D1-A79D-49FF-9349-96CB08C87E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5F2D3D-1127-4187-8A52-9EF2D6525C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CF25F-2549-4C73-B9E8-FFD850BCA7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B2BF79-01F7-41FC-A436-DB1745E683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78256-6880-42A2-B2A1-D724641D2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43B1D-D440-4AEE-92CC-754B0BDA8E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6AF013-2628-4D8C-8346-2B89D754B7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3D511E-14C0-4D83-A34E-6AD5B2B88C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791CE-C90A-4D2A-AA1D-FA41F10AB8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0A77D-1A1A-4465-8780-052FF5264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C292CD-71FD-4A4A-8212-31D698970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16B649-B5EE-4793-9E6B-A83592C902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9B8A04-02C8-44E1-9322-3FAA74A73D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29FAF4-37DF-4D2E-AC9A-9DB79BB329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5A3A2D-1753-48B2-9179-19067A1B81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2DEA4-2A7F-4DED-80AB-AEB893EE0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AD2F23-689D-4E98-9539-B7E3E46D5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B2AB7F-9CF8-4692-96AE-628399D914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6DB5AD-8C0F-472E-AE74-741C40FC23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56F375-4553-4024-B859-D11DDDC5ED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ADAE48-0AF4-4727-8298-BD98E9994A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8EA3D-19FE-40F3-97D7-540F454413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F7A42F-A265-4648-A515-EFC8984FE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C47392-C579-4FBD-89FF-E5D7B4D1A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83037C-1F79-45C7-86C7-8C4E03A9B8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11D763-46DB-4388-9DC0-A8DC49B4FB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2B88F-1A51-4780-B6FD-90B8BD1C5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F9C9A4-ECBE-4811-92B5-FBFB2791E5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A67C29-0FCD-4243-B1ED-B82EB61584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DBF08F-AE3A-4247-B2F4-0D06D81D42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7BE717-A3AA-41D8-9495-14BDFF9C3B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A0C2D8-28E4-4A3C-A48F-CD355326D3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D81636-BA2B-4DF5-B679-7727279EC5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7A78B2-33AC-444F-B395-2AAE3389D8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151BE6-2E32-4A8F-ADA6-30DF97A11B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F86827-A361-4856-B103-08DA19E6B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9B390-D465-49A3-8A32-4A1D057FD4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B3F38-4C3D-4938-8F0F-8C961A39C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EC7FD4-F826-447D-816F-2A94CAFEDA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F5914E-429D-4784-AF56-E10379E6BA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3ADF46-E3E3-4FB2-9584-4388569A1E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C602B6-59A3-4B95-9BA8-25C6FEBBE0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E4B59A-8B0F-4745-ADA3-4601FC6417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6C8568-6100-4AA1-B4B7-D766E9D037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97C7A1-590F-4E8D-BA0B-DA2FB92DE5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AD60D0-8C22-4D76-A950-907FF31A2C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9E5092-8E12-4E9C-8784-C5D9F18059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BB9F0-B404-42E3-A131-747519DC3F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BE04E-BE3D-4C38-A552-953CDA39F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ABBB26-E49F-4B96-9A97-B1BCC628E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752CC4-194C-4478-81AB-E94F025521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2615F8-B00E-465E-AD55-0DDC41BB1C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53B9B7-614A-4EAE-B433-6357C37D72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5E3387-C3F7-43B9-8A7F-E62C0344E3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5A8666-72D1-4542-9A67-E85D9D2DE1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EE8665-E9E3-40E7-9A6E-4B004AED7A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FD5DFA-AD7E-42A3-A31D-F0614E09BB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4BF701-0CD9-43CD-9052-934151AF23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62AEE0-A330-411D-9E55-94F16A4B87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C8FCF-72E9-4172-9A0D-FB84DB7ED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5AA0BF-0A21-4EBA-BC6A-642FA9F9D4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47CC24-0006-4709-A1EC-C182BD038F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52A896-6AE3-4C5B-8B50-2062BB4009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2ED2C-85FA-4BF5-96FD-F9F8702006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0164B3-3327-4C8F-A5CB-237EA52C06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EFB089-A6A5-4837-8363-93A2B2751C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214481-1720-4D04-8EDA-2035BBD360C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2955-A2D9-4CAF-AEFF-30825D05E2A6}" type="datetime">
              <a:rPr b="0" lang="en-US" sz="1400" spc="-1" strike="noStrike">
                <a:solidFill>
                  <a:srgbClr val="000000"/>
                </a:solidFill>
                <a:latin typeface="Arial"/>
              </a:rPr>
              <a:t>07/31/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AE74-3927-430C-8D7B-F506B60C8B4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EA6F-1E10-49C4-9A55-3F6A9A8A94C8}"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8036-C4FB-419F-9A79-CF93015B2E3E}"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8341-5FB1-4A46-B591-C711D0F24AFB}"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DB64-00FE-4AB7-BBC6-E784400EA8BD}"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2129-A9B9-454C-ACA5-9CED5A4F306D}"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DE06-1306-45F1-9417-A3834012E1D5}"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FF63-1B4F-4E4B-891F-D37DAD614112}"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8EBF-762B-4612-A881-38637A2508F4}"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8095-9DD2-4119-B785-4382527F0DC2}"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0CE3-19AE-488F-A6AC-46CA99BE56E5}"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CAB8C-D797-4B58-9F87-CC649157A85C}"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8670-6B3E-444F-A09F-51C20EA8E8FA}"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883B-F37A-4E22-9E0F-CA42979C686B}"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0EC1-6D27-4ADE-9802-7283BB8D333D}"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07F5-C77E-43AC-A78F-0C218FFEB98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DA2E-7DAD-4C38-B657-E85D8974851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92B6-EDC2-4A81-8FB9-96204ECAF91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C1E5-3E12-455C-B615-10B7F953C89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A32E-8546-4186-A8AD-40C2D8EF83B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33BD-391A-4395-B8D0-ABBE39C675F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9EDF-9A00-4DFE-8A5F-1DA9B8C15E8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80CE-1263-431C-93E7-DB1FCEB3C3F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8DC1-3C21-468E-9CA8-CF3A7351703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F40A-88A7-4538-A2F2-5F95AD88B12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85D3-A243-49D5-ACFA-8329700F3FF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E618-427F-4812-8577-54755B0E785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EA9F-90C9-4C7B-9CC1-CC36EA7F734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3DAF-6957-4F94-BD44-950CCD72F26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11C0-8227-43A7-8ED9-EB5144F75D8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30F6-0FA2-4E29-9EBB-4E8AA4C5692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948F-9A74-4BCA-86FF-47DA594A1DF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7CCA-42B0-42B4-9D5F-250F8CFB66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F657-46AC-4756-90EA-4E2628C36AE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8433-914E-4A09-B023-D7A925FF187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6357-5053-43AA-B4CB-E5753B5D5A6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4BD5-C6DF-4EA2-8D26-3B1A83A2B45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4D36-0CB4-4840-9513-413CC923C29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5118-DD5C-446F-BBBE-139ED23965C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9A1E-138A-4F48-A5B1-820FFD850F2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431E-7D24-4DC9-B9C2-5E3F55E08E9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07E3-E8D5-4E1E-B5A4-ECCD2B8933F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80EE-157C-4558-B691-75081A20D55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E525-773D-42FE-A4CC-235ABBC472A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D91D-4493-4CA6-BCB6-215B5F1BFF3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6747-6BD6-409D-A341-E0C61EE43BB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9236-C2C4-4C4C-BFCD-0D324930691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5C9F-6B3A-45A3-8B86-7E85F038D5B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D2D9-79D1-42E9-B4FA-02E24883C77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481C-837C-4488-B8F5-160C9295CCD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5587-3424-4BD0-A238-59588E85799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AF3D-B786-4437-9B97-ED314182A63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7730-4551-441E-BD67-1F7303B7D3B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D938-3127-44B9-9BA2-49B069AE122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A9F3-D854-40CE-A02B-36269DB57C7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8B59-2686-43E4-A744-FEBE1BB912B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133A-E1D3-4133-93DE-0E566AE38A2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7501-E63C-46CD-8A88-B4B7A99075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D3D6-24CC-4251-B1E1-74E285FBB4B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3512-76FC-46CC-86B7-362B86B9489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F292-2458-4CCC-BDF1-9FE9B837188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B1E0-43F0-4D04-A083-E0BDFE4930E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34A7-4154-47D6-B3A6-B4FDA6805B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