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388C-9DF1-43E3-A956-B6BE903C60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B93D-3BE0-4DB3-89A0-4B8CC5F550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40E7-D435-4CF1-993E-B770062A61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A62A-5CED-4EE1-8CD8-D27D17FB62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65DA-5B37-4BD7-9D5F-1484B7A019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7D5F-EE33-4F25-B2E3-B33E546E36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CF29-8695-48BB-80C2-ECA65F3317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9E34-7B67-43A3-A464-BFE9D2D615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CDE-642B-432F-9C92-D5A5C955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EF6-2FB6-4825-A338-D62D27F5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30A-1ACF-43ED-B6EF-025BE3E8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C5B-5321-4F6F-82F7-72BA90C0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1BA-5D07-4FE0-A4EF-B4C8C353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B6F-559B-47B6-BD03-385566D3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7F76-64BD-4415-A90C-DC980478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F47-E1A5-46EA-A0F3-01D7083D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427-44CB-4F29-8427-8C1F48BC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4CC1-C856-4B08-856F-45D0B3B2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79C-7C46-41D7-AF61-1D7953C5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D9F-E7CA-4389-8008-6D2B92BF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7BBB-4394-4D3A-8230-A724F01C38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1197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chine learning models, methods an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3860640"/>
            <a:ext cx="7561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ladimir B. Beri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11592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search dir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1341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eterogeneous transfe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ource data              Target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371484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5280" y="42721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classification of text documents in Russian using the results of classification similar texts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hypoth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existence of common meta-fea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structure of data revealed with clustering 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■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milarity based decision trees and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al D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857240" y="1341360"/>
            <a:ext cx="444348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45080" cy="145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-108000" y="3357720"/>
          <a:ext cx="4857840" cy="22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3357720"/>
                    <a:ext cx="485784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Рисунок 6" descr="tree4sep.png"/>
          <p:cNvPicPr/>
          <p:nvPr/>
        </p:nvPicPr>
        <p:blipFill>
          <a:blip r:embed="rId5"/>
          <a:stretch/>
        </p:blipFill>
        <p:spPr>
          <a:xfrm>
            <a:off x="6012000" y="5248440"/>
            <a:ext cx="1655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mi-supervised learning using multiple clustering and low-rank matrix op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396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468360" y="549360"/>
          <a:ext cx="799308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993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392040" y="696960"/>
          <a:ext cx="848052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696960"/>
                    <a:ext cx="84805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3"/>
          <p:cNvGraphicFramePr/>
          <p:nvPr/>
        </p:nvGraphicFramePr>
        <p:xfrm>
          <a:off x="390600" y="695160"/>
          <a:ext cx="8458200" cy="661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695160"/>
                    <a:ext cx="8458200" cy="661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Laplacian regulariz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142920" y="620640"/>
          <a:ext cx="8605800" cy="615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20640"/>
                    <a:ext cx="8605800" cy="615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"/>
          <p:cNvGraphicFramePr/>
          <p:nvPr/>
        </p:nvGraphicFramePr>
        <p:xfrm>
          <a:off x="1835280" y="4437000"/>
          <a:ext cx="5689440" cy="183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437000"/>
                    <a:ext cx="56894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8"/>
          <p:cNvSpPr/>
          <p:nvPr/>
        </p:nvSpPr>
        <p:spPr>
          <a:xfrm>
            <a:off x="395280" y="260280"/>
            <a:ext cx="81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ppli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lassification of text corpora using transfer lea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KT scans: stroke lesion detection and segmentation using CNN and statistical algorith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ing CNN with similarity-based 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alysis of ultrasound  diagnostic ima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spectral and hyperspectral image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48:57Z</dcterms:created>
  <dc:creator>Customer</dc:creator>
  <dc:description/>
  <dc:language>en-US</dc:language>
  <cp:lastModifiedBy>ВБ</cp:lastModifiedBy>
  <dcterms:modified xsi:type="dcterms:W3CDTF">2019-10-03T05:15:47Z</dcterms:modified>
  <cp:revision>71</cp:revision>
  <dc:subject/>
  <dc:title>Слайд 1</dc:title>
</cp:coreProperties>
</file>