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6.png" ContentType="image/png"/>
  <Override PartName="/ppt/media/image10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media/image11.wmf" ContentType="image/x-wmf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D5935-3255-4935-8A73-9BF14BD54F3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470AE-4604-42BE-843F-106EEACDFE7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FEA0A-8BDE-4BE4-9008-846DB859283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E89DB-CC99-47BC-A03E-5C939D02D47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58C75-BD35-44DC-9C39-E1F656060E6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036AE-FEE0-4A30-8FC5-F4861B84AD2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96610-86CD-472E-BA95-FA54A7EB59F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AD115-AA73-4689-ABE0-51D7E0A60C7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C80B2-C6BE-4324-89AA-800AD51AB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740ED-73B3-44AE-B3A9-DE78E5993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8CCA0-2057-44AC-8743-C7281615B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58D5C-E4B2-4D55-B889-3E2AF8B28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33577-44F0-42B9-8E44-8E1EB3708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2C3B4-2C79-4D89-9E35-748EDC25F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6868B-676D-4540-9D39-16559D47C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C4D72-5D5B-4A8F-A319-75F9C2CFC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9F4DF-6CB5-405A-A2D0-7C94820BF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8F60C-B1D9-460B-9CF8-85DA185C9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699B5-3201-4F6E-9C84-7C7E29D1A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C7A09-FE09-4946-8890-7E0EFFBA3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CFDBE-209F-423B-9EF0-9DC12C4E36D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.wmf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900000" y="1197000"/>
            <a:ext cx="7848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Machine learning models, methods and algorith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1042920" y="3860640"/>
            <a:ext cx="756144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Vladimir B. Berik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4"/>
          <p:cNvSpPr/>
          <p:nvPr/>
        </p:nvSpPr>
        <p:spPr>
          <a:xfrm>
            <a:off x="250920" y="115920"/>
            <a:ext cx="777240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Research dire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324000" y="1341360"/>
            <a:ext cx="849600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   ■   </a:t>
            </a: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Heterogeneous transfer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b05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b05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b05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b050"/>
                </a:solidFill>
                <a:latin typeface="Arial"/>
              </a:rPr>
              <a:t>        </a:t>
            </a:r>
            <a:r>
              <a:rPr b="1" lang="en-US" sz="1600" spc="-1" strike="noStrike">
                <a:solidFill>
                  <a:srgbClr val="00b050"/>
                </a:solidFill>
                <a:latin typeface="Arial"/>
              </a:rPr>
              <a:t>Source data              Target dat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7" descr=""/>
          <p:cNvPicPr/>
          <p:nvPr/>
        </p:nvPicPr>
        <p:blipFill>
          <a:blip r:embed="rId1"/>
          <a:stretch/>
        </p:blipFill>
        <p:spPr>
          <a:xfrm>
            <a:off x="2411280" y="2421000"/>
            <a:ext cx="3714840" cy="1352520"/>
          </a:xfrm>
          <a:prstGeom prst="rect">
            <a:avLst/>
          </a:prstGeom>
          <a:ln w="0">
            <a:noFill/>
          </a:ln>
        </p:spPr>
      </p:pic>
      <p:sp>
        <p:nvSpPr>
          <p:cNvPr id="53" name="TextBox 4"/>
          <p:cNvSpPr/>
          <p:nvPr/>
        </p:nvSpPr>
        <p:spPr>
          <a:xfrm>
            <a:off x="395280" y="4272120"/>
            <a:ext cx="8424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: classification of text documents in Russian using the results of classification similar texts in Engli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d hypothes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ume existence of common meta-feature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ilar structure of data revealed with clustering algorith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5"/>
          <p:cNvSpPr/>
          <p:nvPr/>
        </p:nvSpPr>
        <p:spPr>
          <a:xfrm>
            <a:off x="324000" y="333360"/>
            <a:ext cx="849600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■ </a:t>
            </a: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Similarity based decision trees and fore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assical D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BD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8" descr=""/>
          <p:cNvPicPr/>
          <p:nvPr/>
        </p:nvPicPr>
        <p:blipFill>
          <a:blip r:embed="rId1"/>
          <a:stretch/>
        </p:blipFill>
        <p:spPr>
          <a:xfrm>
            <a:off x="1857240" y="1341360"/>
            <a:ext cx="4443480" cy="17701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9" descr=""/>
          <p:cNvPicPr/>
          <p:nvPr/>
        </p:nvPicPr>
        <p:blipFill>
          <a:blip r:embed="rId2"/>
          <a:stretch/>
        </p:blipFill>
        <p:spPr>
          <a:xfrm>
            <a:off x="4859280" y="3573360"/>
            <a:ext cx="3745080" cy="145440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Object 1"/>
          <p:cNvGraphicFramePr/>
          <p:nvPr/>
        </p:nvGraphicFramePr>
        <p:xfrm>
          <a:off x="-108000" y="3357720"/>
          <a:ext cx="4857840" cy="22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9" name="Object 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-108000" y="3357720"/>
                    <a:ext cx="4857840" cy="22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0" name="Рисунок 6" descr="tree4sep.png"/>
          <p:cNvPicPr/>
          <p:nvPr/>
        </p:nvPicPr>
        <p:blipFill>
          <a:blip r:embed="rId5"/>
          <a:stretch/>
        </p:blipFill>
        <p:spPr>
          <a:xfrm>
            <a:off x="6012000" y="5248440"/>
            <a:ext cx="1655640" cy="142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5"/>
          <p:cNvSpPr/>
          <p:nvPr/>
        </p:nvSpPr>
        <p:spPr>
          <a:xfrm>
            <a:off x="324000" y="333360"/>
            <a:ext cx="849600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   ■   </a:t>
            </a: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Semi-supervised learning using multiple clustering and low-rank matrix oper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6" descr=""/>
          <p:cNvPicPr/>
          <p:nvPr/>
        </p:nvPicPr>
        <p:blipFill>
          <a:blip r:embed="rId1"/>
          <a:stretch/>
        </p:blipFill>
        <p:spPr>
          <a:xfrm>
            <a:off x="755640" y="1700280"/>
            <a:ext cx="739620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Object 3"/>
          <p:cNvGraphicFramePr/>
          <p:nvPr/>
        </p:nvGraphicFramePr>
        <p:xfrm>
          <a:off x="468360" y="549360"/>
          <a:ext cx="7993080" cy="5827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549360"/>
                    <a:ext cx="7993080" cy="582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Object 3"/>
          <p:cNvGraphicFramePr/>
          <p:nvPr/>
        </p:nvGraphicFramePr>
        <p:xfrm>
          <a:off x="392040" y="696960"/>
          <a:ext cx="8480520" cy="6629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2040" y="696960"/>
                    <a:ext cx="8480520" cy="662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Object 3"/>
          <p:cNvGraphicFramePr/>
          <p:nvPr/>
        </p:nvGraphicFramePr>
        <p:xfrm>
          <a:off x="390600" y="695160"/>
          <a:ext cx="8458200" cy="6610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0600" y="695160"/>
                    <a:ext cx="8458200" cy="661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Box 2"/>
          <p:cNvSpPr/>
          <p:nvPr/>
        </p:nvSpPr>
        <p:spPr>
          <a:xfrm>
            <a:off x="0" y="144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aph Laplacian regularization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Object 3"/>
          <p:cNvGraphicFramePr/>
          <p:nvPr/>
        </p:nvGraphicFramePr>
        <p:xfrm>
          <a:off x="142920" y="620640"/>
          <a:ext cx="8605800" cy="6158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2920" y="620640"/>
                    <a:ext cx="8605800" cy="615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" name="Object 2"/>
          <p:cNvGraphicFramePr/>
          <p:nvPr/>
        </p:nvGraphicFramePr>
        <p:xfrm>
          <a:off x="1835280" y="4437000"/>
          <a:ext cx="5689440" cy="18399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73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35280" y="4437000"/>
                    <a:ext cx="5689440" cy="183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Box 8"/>
          <p:cNvSpPr/>
          <p:nvPr/>
        </p:nvSpPr>
        <p:spPr>
          <a:xfrm>
            <a:off x="395280" y="260280"/>
            <a:ext cx="81723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0070c0"/>
                </a:solidFill>
                <a:latin typeface="Arial"/>
              </a:rPr>
              <a:t>Applied 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Classification of text corpora using transfer learning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alysis of KT scans: stroke lesion detection and segmentation using CNN and statistical algorithm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plaining CNN with similarity-based D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Analysis of ultrasound  diagnostic image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ultispectral and hyperspectral image classif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9T09:48:57Z</dcterms:created>
  <dc:creator>Customer</dc:creator>
  <dc:description/>
  <dc:language>en-US</dc:language>
  <cp:lastModifiedBy>ВБ</cp:lastModifiedBy>
  <dcterms:modified xsi:type="dcterms:W3CDTF">2019-10-03T05:15:47Z</dcterms:modified>
  <cp:revision>71</cp:revision>
  <dc:subject/>
  <dc:title>Слайд 1</dc:title>
</cp:coreProperties>
</file>