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8FE7-1FEE-424A-BDD7-5BBF261AA2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FE70-D101-479A-AD31-CACFF49C59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2349-4990-40B6-B0DB-FE77188E3C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E3E0-E7E4-41BD-A219-35121C5A07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7498-DC5C-4BE8-8FB7-FA070D162C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61CD-8A1F-4D31-B2B3-1CD7B96525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998C-F75F-465D-BA05-80BD681D3F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1C70-CE6F-46D5-81D2-98C5D2C246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5BBC-5B5E-47C8-B13F-DBD29A645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2460-CCA0-4CD5-AA80-FAF5037E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6150-67DE-4D37-BB15-E9A8444AA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E04E-E3E9-449F-8610-4ABCDABC6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3B04-2D8D-40DC-BC08-DD3CC77D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25B1-984F-4139-BA2B-4561013E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BDF3-2BD3-4BB7-9D18-2D8568A5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6748-D1DE-473C-9BEB-0398CE1C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E92C-58F1-4C4C-8B51-E3F38DB6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BF57-CC25-426A-9183-04E9E44A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CAEA-E176-4888-A8F6-6BF0877F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FE9C-CC6A-4A2C-9245-9C681368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A3C8-0838-4974-93C2-C47471544F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900000" y="119700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Machine learning models, methods and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042920" y="3860640"/>
            <a:ext cx="7561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Vladimir B. Berik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250920" y="115920"/>
            <a:ext cx="77724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Research dire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24000" y="1341360"/>
            <a:ext cx="8496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■  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Heterogeneous transfer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Source data              Target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2411280" y="2421000"/>
            <a:ext cx="3714840" cy="1352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395280" y="4272120"/>
            <a:ext cx="84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classification of text documents in Russian using the results of classification similar texts in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hypothes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existence of common meta-featur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structure of data revealed with clustering algorith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324000" y="333360"/>
            <a:ext cx="8496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■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imilarity based decision trees and fo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ical D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B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"/>
          <p:cNvPicPr/>
          <p:nvPr/>
        </p:nvPicPr>
        <p:blipFill>
          <a:blip r:embed="rId1"/>
          <a:stretch/>
        </p:blipFill>
        <p:spPr>
          <a:xfrm>
            <a:off x="1857240" y="1341360"/>
            <a:ext cx="4443480" cy="1770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2"/>
          <a:stretch/>
        </p:blipFill>
        <p:spPr>
          <a:xfrm>
            <a:off x="4859280" y="3573360"/>
            <a:ext cx="3745080" cy="14544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"/>
          <p:cNvGraphicFramePr/>
          <p:nvPr/>
        </p:nvGraphicFramePr>
        <p:xfrm>
          <a:off x="-108000" y="3357720"/>
          <a:ext cx="4857840" cy="22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08000" y="3357720"/>
                    <a:ext cx="4857840" cy="22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Рисунок 6" descr="tree4sep.png"/>
          <p:cNvPicPr/>
          <p:nvPr/>
        </p:nvPicPr>
        <p:blipFill>
          <a:blip r:embed="rId5"/>
          <a:stretch/>
        </p:blipFill>
        <p:spPr>
          <a:xfrm>
            <a:off x="6012000" y="5248440"/>
            <a:ext cx="16556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324000" y="333360"/>
            <a:ext cx="8496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■  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emi-supervised learning using multiple clustering and low-rank matrix oper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3962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3"/>
          <p:cNvGraphicFramePr/>
          <p:nvPr/>
        </p:nvGraphicFramePr>
        <p:xfrm>
          <a:off x="468360" y="549360"/>
          <a:ext cx="799308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49360"/>
                    <a:ext cx="799308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3"/>
          <p:cNvGraphicFramePr/>
          <p:nvPr/>
        </p:nvGraphicFramePr>
        <p:xfrm>
          <a:off x="392040" y="696960"/>
          <a:ext cx="8480520" cy="66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696960"/>
                    <a:ext cx="848052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3"/>
          <p:cNvGraphicFramePr/>
          <p:nvPr/>
        </p:nvGraphicFramePr>
        <p:xfrm>
          <a:off x="390600" y="695160"/>
          <a:ext cx="8458200" cy="661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695160"/>
                    <a:ext cx="8458200" cy="661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2"/>
          <p:cNvSpPr/>
          <p:nvPr/>
        </p:nvSpPr>
        <p:spPr>
          <a:xfrm>
            <a:off x="0" y="14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 Laplacian regularizatio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3"/>
          <p:cNvGraphicFramePr/>
          <p:nvPr/>
        </p:nvGraphicFramePr>
        <p:xfrm>
          <a:off x="142920" y="620640"/>
          <a:ext cx="8605800" cy="615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620640"/>
                    <a:ext cx="8605800" cy="615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2"/>
          <p:cNvGraphicFramePr/>
          <p:nvPr/>
        </p:nvGraphicFramePr>
        <p:xfrm>
          <a:off x="1835280" y="4437000"/>
          <a:ext cx="5689440" cy="1839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4437000"/>
                    <a:ext cx="5689440" cy="18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8"/>
          <p:cNvSpPr/>
          <p:nvPr/>
        </p:nvSpPr>
        <p:spPr>
          <a:xfrm>
            <a:off x="395280" y="260280"/>
            <a:ext cx="8172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Applied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Classification of text corpora using transfer learn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KT scans: stroke lesion detection and segmentation using CNN and statistical algorithm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aining CNN with similarity-based D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Analysis of ultrasound  diagnostic imag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spectral and hyperspectral image clas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09:48:57Z</dcterms:created>
  <dc:creator>Customer</dc:creator>
  <dc:description/>
  <dc:language>en-US</dc:language>
  <cp:lastModifiedBy>ВБ</cp:lastModifiedBy>
  <dcterms:modified xsi:type="dcterms:W3CDTF">2019-10-03T05:15:47Z</dcterms:modified>
  <cp:revision>71</cp:revision>
  <dc:subject/>
  <dc:title>Слайд 1</dc:title>
</cp:coreProperties>
</file>