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4F7D-0A02-417F-9BAA-A56C38C8E8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C070-39AA-42C0-8A19-A4070B6E92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3060-21E5-422B-B76E-C713F277E8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9525-12C4-40FF-8106-F3CEDB87BF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0654-F8CC-41DD-B70F-87C69C9255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920C-F32C-42CB-B809-85930B7F3C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359F-502B-4623-969D-747E8B5E81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C8AC-C51C-4EA7-957A-FAB35FE0F0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EE49-4069-4E47-9E7C-0256E3FE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C266-1E21-43B9-9952-7DEEBFC9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BC52-A2F3-4C0C-936C-0590BC2CD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B24A-9F73-442A-AA39-54E0D6FB9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E717-B5CF-4DA2-9354-AE66F01D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3EAC-627B-47CA-B0C0-625E67F9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85DC-67A6-4B5C-BE73-A61A694B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7C5E-53F6-4AD3-AD53-2F289A7A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2514-169C-44CA-BDD0-FD570C33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B1A7-8BB3-41D3-A5B4-3030B1F3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44C6-079A-4621-A38D-F9BF136A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9718-A28C-4D4B-9B1B-01C29047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8ACB-746A-46F1-B234-EB13B4D695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900000" y="119700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achine learning models, methods and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042920" y="3860640"/>
            <a:ext cx="7561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Vladimir B. Beri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250920" y="115920"/>
            <a:ext cx="7772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Research dire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24000" y="1341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■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Heterogeneous transfer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Source data              Target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2411280" y="2421000"/>
            <a:ext cx="3714840" cy="1352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395280" y="427212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classification of text documents in Russian using the results of classification similar texts in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hypothe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existence of common meta-featur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structure of data revealed with clustering algorith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324000" y="333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■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imilarity based decision trees and fo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ical D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B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1"/>
          <a:stretch/>
        </p:blipFill>
        <p:spPr>
          <a:xfrm>
            <a:off x="1857240" y="1341360"/>
            <a:ext cx="4443480" cy="1770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4859280" y="3573360"/>
            <a:ext cx="3745080" cy="14544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"/>
          <p:cNvGraphicFramePr/>
          <p:nvPr/>
        </p:nvGraphicFramePr>
        <p:xfrm>
          <a:off x="-108000" y="3357720"/>
          <a:ext cx="4857840" cy="22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08000" y="3357720"/>
                    <a:ext cx="4857840" cy="22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Рисунок 6" descr="tree4sep.png"/>
          <p:cNvPicPr/>
          <p:nvPr/>
        </p:nvPicPr>
        <p:blipFill>
          <a:blip r:embed="rId5"/>
          <a:stretch/>
        </p:blipFill>
        <p:spPr>
          <a:xfrm>
            <a:off x="6012000" y="5248440"/>
            <a:ext cx="16556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24000" y="333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■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emi-supervised learning using multiple clustering and low-rank matrix oper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3962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3"/>
          <p:cNvGraphicFramePr/>
          <p:nvPr/>
        </p:nvGraphicFramePr>
        <p:xfrm>
          <a:off x="468360" y="549360"/>
          <a:ext cx="799308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49360"/>
                    <a:ext cx="799308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3"/>
          <p:cNvGraphicFramePr/>
          <p:nvPr/>
        </p:nvGraphicFramePr>
        <p:xfrm>
          <a:off x="392040" y="696960"/>
          <a:ext cx="848052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696960"/>
                    <a:ext cx="848052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3"/>
          <p:cNvGraphicFramePr/>
          <p:nvPr/>
        </p:nvGraphicFramePr>
        <p:xfrm>
          <a:off x="390600" y="695160"/>
          <a:ext cx="8458200" cy="661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695160"/>
                    <a:ext cx="8458200" cy="661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2"/>
          <p:cNvSpPr/>
          <p:nvPr/>
        </p:nvSpPr>
        <p:spPr>
          <a:xfrm>
            <a:off x="0" y="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 Laplacian regularizatio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3"/>
          <p:cNvGraphicFramePr/>
          <p:nvPr/>
        </p:nvGraphicFramePr>
        <p:xfrm>
          <a:off x="142920" y="620640"/>
          <a:ext cx="8605800" cy="615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620640"/>
                    <a:ext cx="8605800" cy="615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2"/>
          <p:cNvGraphicFramePr/>
          <p:nvPr/>
        </p:nvGraphicFramePr>
        <p:xfrm>
          <a:off x="1835280" y="4437000"/>
          <a:ext cx="5689440" cy="1839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4437000"/>
                    <a:ext cx="568944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8"/>
          <p:cNvSpPr/>
          <p:nvPr/>
        </p:nvSpPr>
        <p:spPr>
          <a:xfrm>
            <a:off x="395280" y="260280"/>
            <a:ext cx="8172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Applied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Classification of text corpora using transfer learn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KT scans: stroke lesion detection and segmentation using CNN and statistical algorithm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aining CNN with similarity-based D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Analysis of ultrasound  diagnostic imag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spectral and hyperspectral image clas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09:48:57Z</dcterms:created>
  <dc:creator>Customer</dc:creator>
  <dc:description/>
  <dc:language>en-US</dc:language>
  <cp:lastModifiedBy>ВБ</cp:lastModifiedBy>
  <dcterms:modified xsi:type="dcterms:W3CDTF">2019-10-03T05:15:47Z</dcterms:modified>
  <cp:revision>71</cp:revision>
  <dc:subject/>
  <dc:title>Слайд 1</dc:title>
</cp:coreProperties>
</file>