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A5605AC-B252-4B2F-A539-70026FA0FBBE}"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1BBC0-61A7-4D09-BFA6-941D663C1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0F79F-F407-402E-8E66-8CBEE8247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42A49-F75C-482B-8818-4092A9C30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362C9-5A47-4675-9242-7866F924B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D607C-EE39-4BC8-882A-7B4C45F2DF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BB3E7-DA25-4A20-B419-2DFD3B2B5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B8BE3-F293-4C9F-B393-4812A5A33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1621F-F42D-4709-8E87-929A011388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8BD13-581F-46B8-95C5-213215235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A5750-6FB8-49F6-B76F-23C4014A3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A635E-FF02-4A93-A0A7-9998DBFE6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4A955-6CB6-4F0B-A299-F7F895887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579B8-84FE-4251-85B1-3171B059E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71F29-3DB1-4B60-A5DA-1AA85AF5D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7D50E-9006-4C3C-9709-25589848C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DFA0F1-2292-4CC8-949B-B8158A2E16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4423C-9B73-4302-9C10-AB6821A34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3FCBC0-9327-497F-92B7-7F5B69A4AC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1374DD-07B2-4CB6-A2DA-D1CFD3D299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A3B28B-9C29-4DE3-81F0-707082EC49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2544E9-AA0E-4141-88D2-A3C468D18B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B03FC4-6413-45FF-8D45-7F13FF9CB6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581CD-8670-4F85-9423-E099AF137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477C86-8BD1-4531-81B2-7CBB9E825E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4B14BA-AC1E-4686-A2CA-16FA82C99D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54C74A-476E-44BD-8DEE-AF4B016103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FCF0A8-9BA2-4E4F-9DC0-AC848AF194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A6D8EC-4420-4539-952E-9139B19A3C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E109A6-7723-4DD0-A6BF-4F02EF6276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E5A51E-35AE-4A44-8258-1324209952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3AD9BB-6019-4CC8-B062-C34B7EA79A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067E84-28DE-46C5-89C7-B718B382CB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2E779C-14B8-4DF6-9307-1337809F2F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24B4A-5F19-49D1-BDF3-6DE18A712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635D8D-A3CC-4EDC-8FCA-902F12A9A3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CC79DE-CE98-4917-ABCA-B8906DA992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FDB11F-509F-49F2-A3A8-60808C9EE6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CCF1C-3EEF-46BC-9E34-08F7C6B44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A14AB1-2A29-446E-9DD8-203AC16BEE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505CD4-D3A4-4DA1-A90D-001E934047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20AFB6-BE65-4E1A-80AA-047636A61E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28718B-9481-48EF-A7F3-A9E8D1D14D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91C78C-7D29-43D5-B8A4-D206349505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22E38F-5449-4846-B916-9227AE22B6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E4C5F-E8DF-461F-8E3D-897CD5E13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8C43FE-11F6-4886-B486-BF3D8A8A6F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AAA442-5001-450B-BD09-9F5D3571B5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C709E4-3DBD-46FC-AA38-7F06BAAE0D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0483A7-CE87-42B5-8ABE-30B6F3C1B0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4355A2-A754-4DF4-A9A5-1D44E1C751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E863A1-0DE1-48A4-ABD1-2C2AFD9DF2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70298A-80A8-41D7-A99D-79112E5B26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81EF20-DBF1-4A58-8D90-89BAF8B371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AFFB46-2140-4B47-B138-9DD1E6797F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97B3A1-EF20-440F-9439-468FE9D813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6FECB-1F49-46AE-9934-F4EE6DF2F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F42F24-ABDA-407B-9F27-C25F00BA41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DEE0B5-287B-42E7-BF29-02788FCF01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C780CF-6FD3-499B-A834-8F3727D0A1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3201E9-EB04-4B0C-9C85-F2772AE5EA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0333F0-0A21-42EB-A573-65E995F0D9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8A00A5-9991-4EA1-A5C8-8E317704C5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F8D93D-42FF-47E8-BA25-904F057868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CA8BBD-8232-4234-9051-7DA099DE9F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FD670E-3E7F-41FC-AE7C-D2D66619CB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785B70-99DE-40F1-A98F-8135283219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DD41B-E152-4D80-BFB5-B0ADF7E99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7FD1D3-55F1-4027-815B-258DC059DC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8113A8-5435-4E17-B744-F9FEC6A5A2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BF3221-48AE-4647-99E0-82DFDAC0D8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948F69-8DD3-43B5-92BD-5CE6006B84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A63BE9-B054-4158-9639-46D1CB2BD4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35F765-0C4D-4664-9D71-6ED5620D70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22F565-DBBA-4429-9C7A-D8F47EE2E1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3DB5B2-5031-423E-B202-80AF52CAD3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531A05-8946-47EC-B7D4-7F4B86F413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983697-8A25-4001-B16F-A6A72B0496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7FE81-E590-4117-B1C2-2A124AAF2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C911DC-0647-4045-8E7F-B37AB868F5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344DDF-0D2A-404B-AEE0-EC37D4358A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F49045-C07E-4F2A-AF0B-4C38071AA3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5C5BF6-2558-45AB-A742-3D4E0CB56C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DADD28-BB90-434B-84D7-8F77794614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044C06-9C38-4C49-881D-C0E1916862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153505-A36C-4255-BD1A-F81B1B2724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FB2A14-6FFD-4C0C-ABC5-B729DFD54C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83D919-7D5F-4949-BF9C-2041F0E4C4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79B800-C909-42BF-9C96-87E67E629D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35D03-DDA7-4619-8929-24CC2F89B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4DD1D7-5CF5-4A0D-A6C8-425D13F560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4F7820-E4F1-4B1D-8296-9F679484EF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2A32F6-2BE9-43AD-98BF-E0BC0DF6DD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2F74E4-BA81-48F1-B52D-8A00A19904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36B9E7-D5BA-4C90-8974-91CF398C75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09823E-EC54-447D-96D8-9BB152362E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CDC43E-0C41-4BDD-A213-7505C6B9642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8A82-3CB5-413C-8630-EFA12DB36349}" type="datetime">
              <a:rPr b="0" lang="en-US" sz="1400" spc="-1" strike="noStrike">
                <a:solidFill>
                  <a:srgbClr val="000000"/>
                </a:solidFill>
                <a:latin typeface="Arial"/>
              </a:rPr>
              <a:t>07/29/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C35A-D188-4AF8-B0E0-34234529361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F946F-7FE0-4D55-A733-20AC4BA7D38B}"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E838-2166-4501-8ACE-0C3306C81E4A}"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A6CC-4801-4BE7-9CE6-FC55C79085FD}"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3ACF-CB00-4F48-BDAF-58B401BDCCF9}"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B1907-86F9-48D0-B789-4E2EEEF0E2F4}"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322A-343E-4A04-9029-EF9DEDE0F5DA}"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B951-BDD7-43DB-8226-5B77CB1A6FDB}"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54B57-2EE4-460D-96C4-767644B399F1}"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0D3F-C376-4BF0-BF71-C23B301679DF}"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BE17-5A87-4E7E-9808-C6D389F90E59}"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1EB8E-8367-4B83-A742-4F0A0AF3A5D4}"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A93F-D0BB-46DB-A385-1D52EB419A73}"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188F5-258F-415F-914A-E8922855C2CB}"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981C-FBAC-4F96-ABBF-DAF0956E02E6}"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B22E-469C-4FE6-A7AB-BBF32109D2D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B3641-73E7-4E96-94B8-90D0C93C8A2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9DEE2-7060-4211-865A-FF7292A024C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5ED64-1795-40CB-A846-E59750F151D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934AE-F2DE-488F-9D09-911A1D65C1F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F6DA-6ABD-4F85-A505-8F16D269D0E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B463-8AA0-4047-90C2-14220DC30D7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7F592-6F6C-4375-8B38-1F0EC43A1A5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B10A-4104-43F3-8C71-8D85864A7E0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9636E-8C46-4769-8FB6-2785B6E3E2F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B7BA-F9EF-4D73-9B9F-784BF100249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48E4-7F58-4308-A35B-56D690F5E83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ED5B-AFCD-434C-898B-D6A0F2E6DE9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C909-D562-4D85-9DEF-F3E7B919156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F437D-BE60-416E-96A6-0D2F43D14A1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753E-A263-4109-8D23-5BCBC573A96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61CF-1AA6-46F8-A209-EB4C830D953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92B90-6DE3-46D5-B0A1-B8AF831F21B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37607-DFEE-473E-8723-CBF29E0E8CD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9E40-EC90-48C2-ACEE-E00F7477891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99F0-D4DC-47B4-8230-22F691F9D33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7733-77DE-4F6D-957E-119BCFA552F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B1B4-FB66-4DC4-A37C-9005D8D88B4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0E53-E334-4F96-816C-9B1DA983623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8C2B-B768-467F-971A-56A9DDA8162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767AD-85BF-4984-9FA4-4AEC6BACFFE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A7D2-98F6-4994-9FD5-B785B3A5CCC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C73F-0BC8-4BAC-A61F-BAA35C4B8AC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063B-6D3F-4EF2-A430-67191BDDB01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351A4-5F6A-417C-8EC0-BD933EA5363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EEA6D-18CA-4859-8A22-88151A4F29E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A02E-125A-4E2B-807E-3E14E47AB86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8ECCC-DA8E-4544-8064-DA55E6C04E7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16C4E-A940-4B72-AD58-3B320E11852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92B43-9681-42DF-89CA-31230167836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F859-53CA-4065-B903-78356337876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52F5-BA98-4735-B5E5-72F7B5DDA9E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5B190-F36C-4C0D-838E-848482356F5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2D36-553B-4DC4-8D46-54D1F16341C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4E82-923F-44F1-A39B-6545C9553C5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5222-9616-4B92-BCBC-BAE00612BFA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AA7A-110B-42FE-AEA2-D58392FB98A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B937-1742-40B4-947C-6E41AFFFC18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3AA9-DF8D-4AE9-BF26-09F6E68C12B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2001-5DC6-4E9E-AC6C-0DEB37AEF09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95703-66AB-49E5-B0AB-89B0582E5A2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8CAD5-CB40-43D4-BC5C-D481D0D1E4D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077F-EFEF-4805-A3AF-CA3EB629E52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