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10282B7-95C7-4FAC-9BE5-8DBD213E4CEF}"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DC2A2-7640-410F-B83A-248A01506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AB88B-E8B4-4B02-95EE-2F5804627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2D4A7-4A22-40FC-B784-802515015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DDD64-26DC-4FD2-B59C-9CC11360C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73560-F862-48F7-A47B-E52513B0F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9932E-557B-4CA1-95B9-AED2791D4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1FFD2-0FED-434C-AF02-27C26EE64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26296-ABA4-4FAD-9CC0-6CDE27F2C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EDB06-1BEF-4EE7-AF43-F2E5DE187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FF8E6-14B2-44EA-8589-3FD466DEA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A836F-A583-4447-BC62-B36E9EFFD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B3C44-4BD8-46CD-9949-C44C86CBD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D4168-4A65-4A43-AC15-55D5CC0AD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ABB2B-6600-4466-836B-5C4EF4BC6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477D3-F3B7-4594-AC0E-FEFAF8E59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50478-66B4-440A-A7E5-8130975403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32EBC-D8A9-4F89-B320-D45F9F258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64E10B-D50B-481F-9102-B77F62998F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AED39A-3976-4F06-A34E-7FAAA2F1E9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905B6D-03E2-4574-AF28-D7309B100B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4F96E1-96CF-4124-B6F2-AB99556BA8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C78626-7994-4F0C-A5BB-3B4116A97E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E6A70-409B-4ABC-B8DD-F58053604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3ACC3F-09B9-460E-B299-75992C5198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78671-D59E-4A5F-8E5D-70F054A427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169348-398D-4E69-8396-8247DCB2F5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57F37-74D8-4206-B3B9-90BA54D66C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A4EED7-BE87-44E6-B89C-08B3634CC7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9C073E-C864-4FB4-B494-4DE7EA2A96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E0547C-1F9C-4669-8F43-79CCAA27FA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A1C902-C017-457B-8CBF-36E3AA2EF8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CCC7AE-8AAA-47AF-A309-3202E00D14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55C8C9-ADD9-4248-B855-1319334847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488BC-4B71-4B18-B740-E90A02663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539FB4-15E6-477D-B6FB-B831CE6B28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2E1149-F09D-4F19-AF16-B6C1E0A7D1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2C4352-4B9C-4C09-B812-64144FF1D1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4F84C8-601E-48DB-9728-F9502E819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17EAD4-E081-45F3-B948-A63763F6A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315FC0-677B-40BA-AD46-E9E2D6CCA5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B0168E-6D5F-4E87-935B-86710229DE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EA0B58-4E6A-4282-86E8-A413C7B0F3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6EBB30-9BBE-4061-9548-4600F226B3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5AFC36-772C-4730-B616-5E3D67BEAB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B92D5-653F-4E4B-A112-049F884F0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87D8BF-135A-43CD-B373-B3F33ABB77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93B135-5F11-4DA0-9DC5-A4142C8D56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8A5DDE-7CBE-458A-AAB9-C5E52F9CC1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043D26-DED6-4B49-879C-1C6949A3A9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32F3EB-1DE1-4F99-A8CD-4169E67B80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39460F-FD27-4729-9399-BE37549BA1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F06321-F5D7-4ED8-8825-0073F5843D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F3DBCC-F541-441A-913D-9BD49C29D7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DA76B0-9B24-4070-ADD2-E750B7D462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E41072-8A61-4C6A-9987-041016A8DC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040FD-35D3-4F41-9F62-D5E50F75D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52AC9F-B8B3-40B4-96A4-513A83FAA9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182F27-6048-4FDC-ACFA-7F8E1F13E7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1551B7-D8B4-45C2-BD51-6069CC79CC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3632E3-5656-4B5D-8B0B-40373F729B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572600-1ED4-4D10-A244-AB3C66B487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006C41-526C-41AA-8292-336F299E46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6ED005-71A9-4717-978B-E75A485BD3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3DA852-6DDD-493F-8E21-1C337BE75A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DA657F-61BB-4B67-86B7-38AF125C35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FD313D-11AB-435C-926B-49101C8CED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E095A-305D-4EEA-BA16-8D6261B6A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D0AD44-F37D-43E8-B113-C41625C6DF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137E18-815B-473F-9473-333BBD742D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55C35F-3EB3-446B-9F0C-69733CB2D3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861DD7-AF7A-45C9-8E61-1D2E101AF7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C760C2-F137-4055-94E6-CDF4849445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E558C3-CCC6-4EC1-BB34-D06261B031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D070E3-08A6-49CF-A67E-5A68D4FF63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0CBAA9-7331-4366-8B34-086A5C1BC7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7675EF-350E-48A5-AFCA-7444BBE9B1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B8E1DF-40F6-4E56-83E7-5E5BD5E568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602D6-0734-4152-A7F2-22F0376F6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8D8AC8-826E-46F8-88A1-DAD8B82F2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E9016A-0B3E-490E-8483-F7584360C0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6D3BAE-B52C-459D-906C-E4A71F4B22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34AD19-F11F-4F1B-9C28-926AD7FE3C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DE08E1-D80D-45C2-9016-B413B26AAF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4DAC8D-A6C1-4FE1-B410-556CA37E44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767CEC-0025-4C25-A9AC-5859C2BEBA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6EFD4D-C696-40B6-9D0A-CA8ADA746E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4A1F81-CE87-4EFA-BC03-815179378E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1B3224-BB0D-42DD-93BB-F77B7734B0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DF132-0E24-4C24-9683-8501F93B8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F7C88D-A7B2-4FB1-AC79-9E323FCC02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A7E84A-E22B-4206-9EA1-C0DE169C5C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ECEC8C-A638-4FE3-905A-AC490C723F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14069B-961A-4096-984B-9776399FAA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015ADC-3C0A-463F-B355-E1A46DB702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A084EE-79B5-4E62-998E-267B0735BC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7FA68D-2207-4D2C-8D98-81973DF5346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270A-5954-4FB8-A901-A63A33CA7EEB}" type="datetime">
              <a:rPr b="0" lang="en-US" sz="1400" spc="-1" strike="noStrike">
                <a:solidFill>
                  <a:srgbClr val="000000"/>
                </a:solidFill>
                <a:latin typeface="Arial"/>
              </a:rPr>
              <a:t>07/30/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79B6B-8B2A-4D7A-833A-354DC9CDD6F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EA9F-1E04-4456-A60C-211273D61E3A}"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CCF2B-9007-4B0B-AB54-F01A3A01B3A5}"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B413-150F-4774-9768-B5ED1EA27945}" type="datetime">
              <a:rPr b="1" lang="en-US" sz="1400" spc="-1" strike="noStrike">
                <a:solidFill>
                  <a:srgbClr val="dde9ec"/>
                </a:solidFill>
                <a:latin typeface="Arial"/>
              </a:rPr>
              <a:t>07/30/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99E4-8E9E-4CCD-B267-532C9AC5CF8F}"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7384-93D3-4E90-A5BE-72F54BA14B66}"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B73E-D553-4E79-8B8B-E27E75D0E5FC}"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93D1-832F-4F38-8212-0100C895E273}"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2656-A12C-4BA8-B177-2FE3D5B21091}"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BBB10-524E-4287-B4C7-DBE67E3C96BD}"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0FDB-3A21-4105-9418-FF974190F6AC}"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E4B4-88CE-4AA3-9B9F-7CBF1F7DD6F8}" type="datetime">
              <a:rPr b="1" lang="en-US" sz="1400" spc="-1" strike="noStrike">
                <a:solidFill>
                  <a:srgbClr val="dde9ec"/>
                </a:solidFill>
                <a:latin typeface="Arial"/>
              </a:rPr>
              <a:t>07/30/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2F0B-D92A-4194-B4C2-20798A3B2FD9}"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D735-5BDC-4F26-B238-2C6A8CB79A46}"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B5CF-E664-4722-BB7F-E53379FCD4FB}"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7695-61C2-465F-B4B8-0FBE35FB7F3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5EB4-61DD-4C82-B12B-380D9B93C8E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48F3-BBEC-4E8A-B80C-7732A99DB9E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CCD9-2CF9-4304-80DD-B8FEA174AA2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ECBE-76F4-43ED-BD14-3575FBA60D3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CEAA-3D4B-4596-8735-3B17D3C9043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0D1E-FDF2-450C-AE2F-816BFE10872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BA2D-E372-47D1-B627-3D4707FB0EC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6B20-5B00-4211-839F-D49EDD6A639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4A2E-1D20-4B6C-9E13-F0A51CBD543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C50C-BE56-48C3-B920-13B32FC86FF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6F5D-A03B-4A1F-84E0-4764F48B323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B269-DCCC-4A7A-B2C2-B7BEF0EEEC0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B8C0-03AF-4A26-9324-FCF6D0093CE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55FF-DB06-43CE-BC76-B5034F77060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2D4F-0AAB-41AA-B3C4-D16D931748F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CF15-4034-4845-8FD1-5A3BB723AA6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B81A-1A4E-4F92-BBD6-25F53FB7685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DB0B-38C1-44F7-AD35-A751CA76A1D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CF07-4C17-4E01-BF6B-56B57EC3AE9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BF13-823B-4F79-8DE3-2FFB7BCD9BD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004C-E5DA-4830-BCF4-B1A17A914B5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79885-DABD-43D2-AE9B-1C9E29680F1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4318C-4607-4362-81DC-5AED684966C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DD54-0344-46B0-BC1A-DE3391214F9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1AF1-4910-4CEA-A68E-AFC66C045FC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6073-1AD3-42F1-97DD-33B222E2B32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19B7-8363-4FDE-9CD1-E03B7B6D7E1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9278-5D92-4D63-B5C1-852FE60A766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AC1C-263B-40E6-BBBE-D17B140954F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891A4-2693-4EDA-AEB4-6F164AE36BB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FCC4-F618-4CF4-86DC-5E6A7D5DFAF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72F6-3C9E-4F81-9305-500864B893D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D76FC-85D1-4E87-9D0A-2CB4FB68E7F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C4C6-36A5-4A1D-865E-7E84F99E785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5790-C889-4B0C-9A72-30F0DD25D36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063E-6219-4DDE-B471-DC0FEBB64C3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5751-401D-4EEF-838D-A97F4B043A2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334D6-89BF-4AEB-AD57-20FB8B8AA5A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A513-690E-4DBF-ACDC-5253718BC48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C1AE7-EBBB-4EEE-AAAD-CF3F5AFE65C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89D7-FA88-44CF-93C4-3C61A1F42BD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5C58B-52E2-4E38-AD3D-B5ACF7D4CCF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1C84-8EC0-4CCB-94DC-BE0C43525C5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EBBE-46BD-4605-A9C4-0DE53438D41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70E1-8BE6-4E3D-8F24-E9906351B46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D7C7-A473-4C34-8560-FC5B7631A00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A62A-F448-405B-8EB9-BD492682DA7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