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0DFD7EB0-50CC-4241-BBC7-F89841E9BFFB}"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79964-49D1-470D-8E8E-DE3C18A0B3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0A0E52-0E58-4A43-A31E-1E8E91E9F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2751A2-D489-4799-9E66-C526EC2AF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12371-C3B2-483E-8110-B7A5BE987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450865-27DF-456B-9CD4-D14C4C05FB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EB60AE-39C5-41B2-A641-D203112CC1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E49EAA-A9AE-4AAC-A498-784D1D6C24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73520B-539A-4AE9-96EA-795E23D5A7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5DAE4-3B49-4240-86E8-345D313078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804E9F-5ADC-4A75-A4D8-C65C6D52ED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A4BF6-01FC-451B-BAB6-76AF943B24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63D7B-FF43-4A0A-BD82-3CA5E64F51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F52067-5265-437D-83FF-14F5A6EB96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86A802-67C4-4A40-984B-022C81A253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163899-966A-4A8B-A580-66A1A846E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036C5F-1069-41AA-BA33-772CE34FAC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6C9E949-10C2-4D27-8227-6106578CAB1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0C8E0D4-5390-4237-891E-04712D5BE1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EAEF16-ACCA-46A2-9E7A-09617DB9C6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8EDF51C-E231-4B9F-8244-F9A43F4A99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8A18CA-BDC1-4B77-9BF4-0D06088F08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3785F6-0D1D-493A-9DE7-93480D0EB3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87A4C-CF5B-40A6-B5E0-9D4B8278B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DE80FB-AFDC-4F67-A8A7-FB6B9EFDC7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888ED4-300B-4A39-BDFD-80ADA228FA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CE2920-C92A-4FB9-B993-EC9CB9D831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04330A-08AF-4D9B-8D73-D2A915F46B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52D945A-A2EB-4135-856F-07165E672C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EF66EC-5348-408E-8C46-A27CE772EC5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1FA73A-197E-41DC-A4AD-446889CFEF8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C831D13-7152-4550-AFF5-346AFD20CCD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538107-A7B3-4B94-A5EE-19478D983E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9D8C588-8CF3-4356-B481-C857E71D4A8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33805-8816-4486-86BD-95E376BEC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C91ACD-1614-4428-A027-96D469F8F85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B4C9CE-FD34-4FE8-B75B-FF6DD333791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92C3E6A-E571-457A-93D5-989A5928CD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A7019E1-BDCE-466F-AA6E-FD04DBCC3C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013FC83-57EB-4CBB-B156-9C79835401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82C060-8354-46FC-BD7A-08293C4349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E6940CC-3FC1-4650-930C-C6D37C511F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B5D22D9-D9EB-4967-B766-68371088FD3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620F13-4FDB-45BB-8F43-E3872B1EF26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6A2CC1-C7DC-42B5-9AFD-C9A5ED05F3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46BDE-47B4-493F-A364-C12F5CB52E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81237B-41C5-46C3-9508-0CBD4A1D57C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1365CE-E3A8-4376-9026-A6C82665E9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1CBFC3A-7A2A-4A5F-9208-CD5DD3FBB0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AE81EE-2A79-4316-866C-2869968E9DC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2A1362-F332-4205-BE0E-78093BF0561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32F730-E659-4765-9F6D-2E3E16253A0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8857D13-964E-4E86-A871-A060F38277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19FB0B-5E07-4E2B-BB9E-3F1445693B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D0AC03-8744-4BB9-8798-C0E73F60935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4EE4906-86D5-465E-9924-44B23A8D296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CB6B24-3334-4DA2-9BCD-156271A819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B146F0B-15ED-4A80-92BD-5A6AB787ED6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F41954-941C-441C-ABAC-F0212907121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314E308-6B0A-478E-B351-BBEA29184F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72AA9C-49AD-461C-AC80-AC850A1A50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07D5709-A2F2-4BA0-B672-73E1422FB0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E9A4D1-20F9-42EC-9B22-D6BEEFF6D65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31F7E6-2F29-417E-8050-2D0CCEF5099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4520BAA-E98C-4E40-8BB6-B16B98466A0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CD347C3-BD0E-46CA-A49A-A9D7912AE74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146ECC-776F-4541-8223-B41C970AB3B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1A1B75-C7D1-42BA-BF7B-6C05F18C6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3A39BA-8D73-4FCF-8809-A442878691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A0B8CFB-F97B-45A7-ACE1-1229BB544FD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133E242-75D4-4D16-A684-412713ACD30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8B41E0A-26FF-4642-9715-0B0DD50C20D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7DB2AD-A412-400E-872F-EAF5282918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9CF4230-922E-4981-90D9-30FA2D1307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479A80-8871-43D8-961B-68513A92C9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7DA922-D572-48C2-B347-8AA531ED47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90DEC21-3E73-4198-89E0-F2CB3B057E3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69895C-25B2-4C1A-8D3B-910A358024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EB933F-E427-4ABC-B01B-03C53704A0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EA11DAA-9260-4E43-A424-1D49B77F78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2D44FA-3973-40AB-8E2A-F85D55A1C9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4E8470E-D85D-4F28-B3EA-9D26E46CD1A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724320-465E-4EE5-82D3-8676C402C10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FE1EED-7276-430F-8374-5495053B849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D968D6-E050-40EF-A311-DA6406D235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82BD637-7A77-41A7-9209-61ABC4F2731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A8A0B5D-E2CD-4535-8209-CA7EA3AAFA6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2AB68E0-BA47-49A7-9391-6082B4A6D89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BA4E818-5241-401F-8911-A2CC556B18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5159F-A50A-4010-A10D-78D5F8A4B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D2D4D8-4B43-4FD4-97A5-BE8F4C3EA7E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F5F910A-941E-46CF-A828-D8F5C3E5B3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35AB928-8148-4917-8ED3-B05E3096D1D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A6E2A2-720F-4D48-8000-834B9A57D93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30F918-562C-4A9F-9772-FBFC4663D47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7BABC80-A272-426A-9F1A-9D59D9B0F0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879054A-4C15-4D44-8D85-CEE94567F4CF}"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B98C1-05E2-4E5C-9712-6B64B89CA5A2}" type="datetime">
              <a:rPr b="0" lang="en-US" sz="1400" spc="-1" strike="noStrike">
                <a:solidFill>
                  <a:srgbClr val="000000"/>
                </a:solidFill>
                <a:latin typeface="Arial"/>
              </a:rPr>
              <a:t>07/28/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732603-0FE0-473D-A74E-2321C8605F9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BEF1B-D2E0-44FD-B091-72B08BAB95B7}"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26E7D-74B7-47E0-AC38-F9A4978B5EA3}"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1FACB-78AD-475F-9380-EFF9454B60DF}" type="datetime">
              <a:rPr b="1" lang="en-US" sz="1400" spc="-1" strike="noStrike">
                <a:solidFill>
                  <a:srgbClr val="dde9ec"/>
                </a:solidFill>
                <a:latin typeface="Arial"/>
              </a:rPr>
              <a:t>07/28/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888D0-C302-4379-875C-0E849100971B}"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BA9C0-1335-487A-BABC-F6CF796C456B}"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F53FD-33A4-4D75-93D8-DFEAF987AC7A}"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7E36B-A251-42BE-B68B-B40745DAD124}"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CC5AC-D88D-45F5-9186-96674839DE3F}"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16CB0-9F51-4846-A56C-85D778335BC0}"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563B89-BD72-4620-831F-B975DB5A4276}"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DFA35-39F9-46AB-91A3-CC53A28991A7}" type="datetime">
              <a:rPr b="1" lang="en-US" sz="1400" spc="-1" strike="noStrike">
                <a:solidFill>
                  <a:srgbClr val="dde9ec"/>
                </a:solidFill>
                <a:latin typeface="Arial"/>
              </a:rPr>
              <a:t>07/28/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B0AF8-4F65-46A4-815E-2C3F2F74020B}"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FAFE0-E7DA-411F-83D1-318A09D21E48}"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7A491-172D-4620-A08F-01FCF4EF3A98}"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8ADFC-BF29-4191-85D5-F75FBA35382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21A88-957A-4BA8-AF5E-0F5AB455737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22003-E0DD-46BF-BF8B-898DE8F1D56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64041-BA42-4632-A6FF-1DF65E5C5C1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E061E-6B18-4961-83BE-896F18352DF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740F6E-AED5-4748-9200-97B0D3EFE78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8DCFC-9C79-4FFA-A8C2-9AFCB7AFA7C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A80FE-A6BB-4DD4-8E9C-09709520B60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9EC3D-CB28-4F27-8928-96821B2B357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FA711-D80A-4C5D-9A40-7CD15F491F3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76E07-5CDC-4B7B-92AF-BBB2BACBAA6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CB551-692C-45B1-B2C4-7F876297633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8C02C-2F4F-4457-B49E-71ACBFCE01E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6092-7D3F-4B41-9C49-8F43907E0BD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A9316-CD5A-4025-8622-2D9251F6595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EA40D-BE6E-411E-A087-B1FBAB18375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67019-6B7D-44EA-8C5D-FF40767B77E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86374-7A5F-495B-A6FD-71CA47D6624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6DC17-EE79-43B1-A4FB-9563351EB1A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EEE64-EE82-4998-83BE-6A41FF2011B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97013-6906-498C-B0CE-F8A0D01CCC6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96784-CB80-4B7E-8B8B-4A85F4AB9FF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82117-C8F3-4E3D-9030-F8B109B6381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F0763-4EDD-41BE-967D-5C090952D50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45DBE-906B-4CDE-9C03-1321F49954B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95074-3E3A-4112-BFD1-2B88986C686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31958-4EE0-4E55-B6D7-2EA40A255F0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E2D98-0760-448C-B5A5-382A2418C56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3C3CD-7F49-4CAF-A8DE-7B81F1B0A50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A155F-2F2A-4DCE-A01E-C4606FCACD3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717E6-0719-4031-A5F9-1401477F8833}"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04CA1-BE79-40DF-BE7F-F32F84969F0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2682E-0DD5-4AE2-B022-E12584A88FB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FF900-FD94-46E5-A4BA-2CBD6E56319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F0F3A-8F2D-4D8E-AAE0-019C4EDEAF4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719D8-3FCB-4802-9B66-D5680386077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207719-3C7C-4477-BBDA-E00D1C18839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0E422-0CF8-4B87-971D-F4A523F6C60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D6957-F39B-4FC7-828F-85D19C286A2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4FC69-B860-4044-A732-1069F418A65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7D108-02C3-446B-8EB5-420F0712407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387F2-4800-4143-B506-FDE8369426E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115176-2E87-4DFD-BBC7-00C243A8EA6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4B352-AC9A-4DB8-B0E4-EBA7EBC3466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30526-689C-45B8-B2A4-7AAE7833575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ADFF-0B43-4799-B37A-BE9A8467DDD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9BF20-3069-43D3-9949-8A14561E165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89719-31E5-4C28-B186-4E42F606A41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