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F114CD1-5D7D-47AF-A645-93592B34B880}"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5E49F-08E6-400C-BFFF-C475DEBE2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2B018-B4E2-49C7-A139-4F5D7735F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201AA-9C13-4A48-98BA-7EE6CB2FF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09BCD-0D87-4C2E-9968-1F85CB200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F504B-B1D6-4940-929E-724E18195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0859-9168-4C81-8C9E-3DD3E54FE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A1AF0-2BDF-45F4-968A-AD1DCF89D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3732B-AD66-4D5D-9D4E-0C40276C4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CE085-7CFA-4528-BAFB-C45AECCA0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31447-7E7F-4264-A8A6-9634BE385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4C2E2-23F9-4AE7-B7B2-2633DBD9C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AA3A6-E60D-44EF-959D-33F6B17F0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AB355-2AA9-42DF-9B85-0517C1C45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03494-B46B-45C3-8E15-085413F73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34CAE-C160-4BD4-A7CA-E68F9F19F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A1F3B-B45F-41A7-9BC5-B4D10052B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1A8E8-71CB-4AA6-9A50-C05CBEE8E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1DD47B-945F-48C9-B3F3-D2F62BF9A1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90C83-8722-4B09-96E4-36943405B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FBC7C-E945-4910-93EB-5F8298407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77E656-E290-44BA-ACF7-CC54EF86F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E503F-651F-4EA1-B845-3783936CF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CDA99-52C9-44BC-B85F-0065E818D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08B091-DEB1-49F6-BA02-078E525379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81FE8-0CAD-40BA-B34D-9451C726C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2DA5D-5083-4A98-9AAF-C3BE80BDA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C7979-D0C5-4BAB-98F6-9757348CC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F8B88-1E76-48E6-9410-80841176E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2EA143-55E6-47CC-A719-D79339974A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CA2D9A-AC5D-4057-8BE3-72938C0914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83095-9A8E-41B0-9E3A-0D3191898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B546D-9BE3-4B70-AAAB-379CE971A6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EC1531-AE39-460F-B75F-D3B1CBB70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A285D-E928-49F9-A546-1DD3189E1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8354D7-BEBF-4C51-BE28-E1DFFB18D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AB5092-138C-4F6A-8A87-1A7DC47E6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4CB50-089D-4495-A2C4-C2D30FED64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FEF39-4E66-47CC-A04A-3401C6599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74D41-7C43-48D1-919E-07E6DBD0E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B49A8-AE5C-4A0C-A50B-5E03F358F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66EE9-40F9-40E1-8ABB-DB6563336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CE4FD1-D1E0-49ED-B807-27844F241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4F1751-2748-4ACD-ACC1-E98FB9F638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BDB91C-FE87-447A-A8B1-35E185EE0A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1883B-98AB-420F-8597-216D12B9A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59773B-8AC0-406C-877B-1ECE4855E1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2F3FBB-1023-4D7A-8E6D-3B0E07273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95BC93-F65C-499D-9376-6198DA993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D219A-75F5-4C2E-9C22-2E4571548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8018B0-3B14-4DE7-A209-39C52DF855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B61A5-8402-4FA8-8870-492C759DA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5E2AF-BB54-49F0-9A76-3813411E5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65209-50C2-408F-9CF5-59E6BC945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15DBCB-0D8C-49E8-96E9-F1EEC44679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340A01-4D21-4ABF-8472-83F25C4EBF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69BED-57AE-4F5C-B3BE-DC255D6EB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BDD506-68E1-470B-B3E5-A4D51929E2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51CB45-D7F3-45A6-A3C5-17B8958A52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F04EF-0411-4056-B43C-62342A0F8F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591FC5-12D6-4F77-9E29-1080B50570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4C1BE-D38C-4C4C-8024-CA5C002153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F2B49F-F80F-4AA8-918D-9BD193EB0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C540A-39F4-43AF-AA63-DD3150851D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A3DA9-12BB-4608-AB3B-63DE9C768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CD67B-DD9A-4E44-8B26-743323CC2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B16DB-6BA5-4A7A-B3DD-C154A67D1A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6250-1C19-423F-A190-CFB2F7675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8946DB-1BF4-49B8-A97E-719D9819ED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ADA129-8361-4709-AED6-EED3A7F559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E77641-5375-4CBB-904D-CF806477FD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173972-AA13-4E68-BDE8-286BADD00F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030AFB-7577-4C39-9796-7080FD12E1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DA1B2-D742-436F-91C9-8C120C7115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2C65F-E914-41B0-8F8E-F72725C965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19F0B-37E0-436A-967D-ADFBFE4F6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36B89A-EAB3-4F13-960D-5A9A6D313D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779DF-1D48-400D-B68E-03464CA6E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CEB9-9283-4267-A908-387593DDA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A7295F-5979-407B-A3AD-316DEB2E08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091BF-907C-437F-9708-BBFB09366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B7C6ED-F616-4990-9CA3-D085F78A6C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F7DE1E-66F9-43F6-A217-5CAC282F6D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073D9E-44F8-4A4B-829D-73F7F39F60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6BFC0C-CAE1-4CF0-B78B-CF2D39575C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906AE5-4C8C-4DD4-87CB-E0B59CBD43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BD1BE9-EFBA-4A71-9A33-94FE224C7B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C156CF-A025-40EB-8D56-3B84B55AC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1E8759-6403-4E2A-B633-1B23CFB8D2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E514E-D241-4531-B185-B69794EC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01A5D6-434D-46EA-BC8B-B5F308BDD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23E2C-699D-4795-BEF9-07BE2B79E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E383B-C332-435C-B3E7-3DDB3970C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015D1-B0D3-4B31-B095-DC71C4F13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2C2BE4-C6CA-4300-AE5B-5A1731EA2A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9568A1-C31A-42E0-8DB8-9D591B4F5B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851CDD-C658-471D-96D6-340BB2BAE36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298D-833D-4C07-85EE-DB1F61982A10}" type="datetime">
              <a:rPr b="0" lang="en-US" sz="1400" spc="-1" strike="noStrike">
                <a:solidFill>
                  <a:srgbClr val="000000"/>
                </a:solidFill>
                <a:latin typeface="Arial"/>
              </a:rPr>
              <a:t>07/30/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2C68-A037-4241-9F7D-A5F87F4D314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43C0-C3EA-4C88-BA4D-D4C6D2517BD6}"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CF0A-4455-4047-BCA3-F2824A5CDFEE}"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AFDD-A9DF-4586-A7FD-D2C30540A6B4}" type="datetime">
              <a:rPr b="1" lang="en-US" sz="1400" spc="-1" strike="noStrike">
                <a:solidFill>
                  <a:srgbClr val="dde9ec"/>
                </a:solidFill>
                <a:latin typeface="Arial"/>
              </a:rPr>
              <a:t>07/30/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193D-A3CF-43D1-976B-CBE3329E2F3D}"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B75E-3D19-404F-97A5-4548AD92BFB3}"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A73A-A7A9-4FF0-8467-808D931FE61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81D7-708C-4A72-BBF4-D364B9638F33}"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C4D5-25CE-4A0A-B0C9-66D67F06FEC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C146-2030-4F8B-B34D-18D0918852B6}"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0946-4415-4390-8618-BFE5B234F75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861A-60F7-48F7-B683-E38DA2D6DE4D}" type="datetime">
              <a:rPr b="1" lang="en-US" sz="1400" spc="-1" strike="noStrike">
                <a:solidFill>
                  <a:srgbClr val="dde9ec"/>
                </a:solidFill>
                <a:latin typeface="Arial"/>
              </a:rPr>
              <a:t>07/30/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F692-4174-4B72-9AEA-190EC822ACE7}"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0513-1D7F-4B3B-BEBC-4290302EC9C9}"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12F2-5956-450A-A0F4-77807F8B356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9872-574B-4257-9210-79021355C74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FBAE-6A33-4713-8D90-6260BE1481F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3CA1-DF90-4F98-A62B-3B49935A112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A992-A646-4D2E-9D8F-7AEFD4289C8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4A11-B7A8-4EB5-B97B-588912471F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F82C-3A1E-41C6-9F09-8DD0A61D946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F92D-E2C6-4378-9B49-D203545351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0BF5-724F-4F44-8CA3-B1799ABC2A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9EC1-CD5F-4ACD-8329-62937F27B6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08D7-A05E-478E-81E0-E7F21B2EF9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7E4E-4C25-415A-A3A0-DE5B1DC0623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93D1-9AAF-4290-AD17-4B6060981BB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8F8F-0026-40E3-96FE-CA56972A14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3EB3-5403-4D1D-A13E-8D17986EB1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8150-BF71-406C-913A-330702C64F5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C794-88DB-4512-B370-28B709EC81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2ED2-497E-41A1-81CB-FCDB5152894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E4E6-4C7D-48FB-A873-0CB9593417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5140-B91D-44CC-B8E2-16D6D177CA5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5B76-B752-4C80-B551-740ED8547AE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E78D-DBB8-4D94-837D-59E1B88A75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1761-2DC3-4476-8C24-C78D74229A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478B-95D5-4A4B-9E3A-89C00358953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707A-EF61-4176-8565-5311A3F8B4E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DF57-9953-49A0-B57E-25D97043F0E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127E-13F6-47BB-B4D0-DA682A5290B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134B-9B68-4DD4-9C0E-F5F1A5683CD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E6D3-4BDF-4D95-8517-46628E11DD4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B120-6D6C-4BC0-BCC1-745A212E4FD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7CE1-1FAE-4F4A-A73E-6A4FC366314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3034-46BE-4BBF-8A29-1323FAE10F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CB90-D4FD-42E4-AE5F-807A398A6F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6001-C538-43E1-9D24-7C95147428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96F3-270F-4FC9-854B-467C577140B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899A-A7FD-49FA-A377-9AF7A816BCF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FDE4-7599-4A68-BEAD-3561CA9B0F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A7F2-9BA4-4886-B83A-FF3D38B8D6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A824-293E-4AC6-9337-74315EC634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4F99-A8E0-4AFE-B90D-270A393047C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1FBA-BD24-4760-A92D-73B29FE891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F220-3F44-427A-A8ED-13245692B8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0B5D-F8D6-40B9-8395-098A9322045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7D1D-08CC-4CC9-A15E-A4B2F4579AC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4647-C4E1-4D99-9139-EAD249ED01E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39C3-D894-4E3A-907D-599BAD3A035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CAE4-350F-4B57-911A-C45F1C1CE40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796B-EDDA-481C-9F04-D6F47FA4D28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80B7-363E-4C30-A81D-B28253A868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