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20A3796-8A83-4211-AA30-0526A0A9CCF4}"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42797-793B-42FA-8B34-EA1900396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5D16-DF18-4F6F-AC45-E17273FD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B9CA4-9424-4642-947A-67EEADE4B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B3C6F-EC33-411B-A310-7AA0D8494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A358C-D2B1-448A-8D02-54F907876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0BA44-EBFE-4A88-8EE0-54AFE6FC8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1760E-9860-439E-8E13-375792EFE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E8F4-D899-4035-BA44-0F2800858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FB298-E66F-4238-9B39-DFECC55B8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00138-527F-4FAF-9529-19EEC55D8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00188-C594-4503-BA0D-7E3E50F1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88F34-1C82-4076-9AAE-1AC29EFE3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CBBBB-B2A2-437A-B25D-ABDD18421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05968-1C17-4E32-8D12-9204CBF08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37D54-98B8-45AA-8D81-525F6EB37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E3636-B7E8-40A2-BD58-A69492089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574F5-DB68-4A62-B785-586E477C0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A13987-E7C8-42B4-B2D2-58E194438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D8229-7395-4DBC-AB80-3BD262144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649EB-6094-485E-85D3-B8E418F93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C565E-8E1F-4C81-A656-2EDE92D25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05040-116B-43FB-93E0-5A52125A3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A5C89-EFE3-40B0-829E-EADD6892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0DAA2-9291-424C-B9B8-8A3768A9D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078D3-FE65-421B-9AC5-DAB1E6280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B642CF-9BC0-416F-BA9E-D5BF85ED9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ED560-D922-4774-BB03-492353D1F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CCC2C-AB09-456B-90E2-DA8B36529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D3A98A-5848-42F0-89F2-4DD851D975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38786-F3EE-463B-9EEC-BBBB01559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749991-6374-4705-B327-3D11B9727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AC31A-18AE-4F6B-B810-D3CAA9B1A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AE79B-0462-49B1-9BB9-CEAB591B9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749E-D737-4893-B06D-E718D0BC8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3D9F1-5266-4FA3-8012-F1553A4B1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2B582-FFEC-4B93-9392-39CBF1302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26D7A2-EA11-412A-AFAC-FE55D6515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1137C-552F-45AD-AD97-8A43C547C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E3C40-73D8-4541-BE12-2503235F1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150DA-1C6C-4A5B-9E83-9AD28F50F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5772E-8B4F-4579-AA65-1C3C1AA2D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81CF0A-330B-4552-AC70-AD842584F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55C52-DDDC-48EB-BD1A-585095F118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8C5B65-4BB6-4202-A86E-B316ACDD5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1CCDC-A5E6-4B8C-A85E-51D3CC9D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6DF5C-5C2C-4C5A-AD65-129592194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8A1A8-01E0-4A44-B53C-8476D70DB8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DA4B2-9625-4E2C-A4BF-35C07D1D8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AE69C-FDB0-450C-AB31-AA27D28F6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4CF79-41D0-44A7-9BAF-F53DB41F4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8FDE8-B002-4FDC-B3C1-1567D6410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2B773-7ACD-46F9-8E86-3EB7363AB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01F4E-649D-4A0E-A56C-B3699AC95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9394E-E14F-4EE6-A714-67A2AD801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F6CD28-4F07-474A-8720-1855F253A4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C0C1A-2AB7-4AB2-9A98-FC7FC2138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670E5B-D85F-48F2-948C-92C44CABF3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D7D7E-0F79-4B23-AEA7-8667D0A5A5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3EC86-E109-4A08-AD13-76DD2E362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AF658-6328-4AD8-A855-353A4F019D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94A80-D422-4C80-9D20-E6F0DE89F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1EA26-0FA1-41C8-8EA0-0F0E1A4D50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07EC4-9170-4C53-BC5E-0D931BBB17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E0F53-62C1-4D6D-BFF6-025752951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ADB70-4901-494B-B75E-90B7C0F36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DE6AF-671A-49A4-AD50-0CDB8F802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59FD-91FD-4613-87BB-1EDA3AEB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BA310E-F61E-40A7-AD1D-684E9D955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F22346-586A-4C8C-A24E-FD01005CDB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E138DA-3743-4C29-A54A-CE24EA30F8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541E17-9CB3-4704-9B29-B5A533A655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1B75E-E9D5-4CEC-B9D2-06929F0AE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D9EBFE-0459-4414-89C9-E4B4F70E56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09FA8-7FE1-4D9C-B0BD-C9793BF03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52F0F-5266-4C8B-ABF9-D1C767587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71902-B6D0-476E-8B73-685A9685F4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6DFE5-0AA0-4629-9746-26325126F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A2BC-F02D-470A-A83F-A619EFAB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D6D0D-46D1-4CD4-AA80-117678DDD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E2820-2530-4B51-85C6-BF04348E6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0BC7F3-1D43-4D0E-ABDB-9B894DBE0B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C2FEF5-E457-4A03-BAE2-1D3D33C00C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88726C-CE0A-4C01-9EFD-64C19707BE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49B582-AD4C-45AB-AEB6-C6FE27C24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08E218-7AB8-4C8D-B460-73EC410C56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2810B9-849C-469F-9090-5142B525C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A55CD-3641-46A1-AA20-BF8E419AA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371D6C-B241-4351-A9F6-97F28006A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4D40-8B31-4EEE-8536-4401974F5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6E273C-4383-4499-9989-30DBB89DE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6785A-7983-4AB8-9A1E-D1546B830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A573A-82CA-4059-BDAB-A6EC3E7EB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982EA-7EAA-4EAA-AD30-A5349D36D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93B96-6E58-4556-A82D-6D74203C8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6A3780-74E7-48FC-AE2F-9D765504C7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B9806E-8586-4A02-AEBB-5C8627D1D6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2005-EFA7-4474-A3A4-DD83A2C02BAB}" type="datetime">
              <a:rPr b="0" lang="en-US" sz="1400" spc="-1" strike="noStrike">
                <a:solidFill>
                  <a:srgbClr val="000000"/>
                </a:solidFill>
                <a:latin typeface="Arial"/>
              </a:rPr>
              <a:t>07/31/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350A-5CBD-411D-98EA-E2A243F93E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C26C-2098-412F-837B-698614B69C79}"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09F7-760B-4994-807B-00B46BB9516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272E-A517-46BA-8BF4-CFFD15CB022E}"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7036-6B47-4376-B879-F47839DE631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6652-9F45-4E86-918D-CA90268F763E}"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B8B4-D012-41D9-9E01-70733585C34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F343-BBFA-4145-899B-EC90F916B485}"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F2A7-E444-4433-8EEB-73D43AA7294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0573-D63C-459D-9994-18C876E478CE}"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46C0-0BE8-493C-838B-EBA519615AE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08FA-C792-436B-A71A-5F50C5485E63}" type="datetime">
              <a:rPr b="1" lang="en-US" sz="1400" spc="-1" strike="noStrike">
                <a:solidFill>
                  <a:srgbClr val="dde9ec"/>
                </a:solidFill>
                <a:latin typeface="Arial"/>
              </a:rPr>
              <a:t>07/31/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26BC-CF60-48C4-B966-F08A1E02E9D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4BDB-F231-49BD-B844-D555F3632226}" type="datetime">
              <a:rPr b="1" lang="en-US" sz="1400" spc="-1" strike="noStrike">
                <a:solidFill>
                  <a:srgbClr val="464653"/>
                </a:solidFill>
                <a:latin typeface="Arial"/>
              </a:rPr>
              <a:t>07/31/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E726-7F23-43E7-AAB3-7F1004AD1DF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63F9-296D-4B95-8B4B-7C5FE0789E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8E47-1D25-4A49-96EB-502802536D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C6DC-1001-4C05-A2E7-111BCA8CBD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6FB5-B0B6-4FAC-BFC4-33C4D5133FE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4A6F-2F79-4B16-AD24-B2A956FC24A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F066-0601-4653-92B8-8CBCAC931D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E774-247D-44C9-86D5-331DF75D984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4063-BAE0-42EC-9300-BF429BDCC4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82E6-726A-4068-AA9A-F8618B4AF5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C1EB-107A-4F63-A06E-7D58D508BA0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778F-629A-4796-9EA7-C1BE852C9D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9AF9-92B2-4C68-986D-8EA466B7E9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10E9-05EA-4B8E-BDC4-845373B650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8FCE-989C-436B-9C30-830D3DCE4E5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E9AE-0B90-454F-9A6C-00F72A6916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4FED-6C2B-4C60-814B-2D4EEB5C08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D3AE-AF88-4615-AF45-0DDEF99E6F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5657-245A-40C5-ACE2-764B62EC77C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69CB-FB08-4808-B719-FB059A48DB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E0C4-42B1-4D73-A069-A12230CED9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735D-153E-46ED-B59A-82C4E913AC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BF56-1F41-419D-8B77-D1B9F187B2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CD0C-0F71-45DB-A471-BCD806B5EDD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AC44-E697-488A-B2A7-2DF88C2CC7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19BB-0262-4AB4-A64B-3A9C36349B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9769-1FDF-417B-AE66-478786942B7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4B7B-9AD0-4239-974D-57CBE89BC6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8CD0-1AD5-4799-8AFE-F71BCB46B4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F494-0AFB-4B57-AD1F-0ECACEB9CD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3356-C551-47A6-886E-8C704717689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CADA-4511-451B-8DF5-DC388A2E14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7830-AF37-4784-A40A-0392BA828B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6999-4B11-419D-8BDB-BFD52D2E2B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0B91-F5B0-40DB-9501-7F115EDADC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D2C9-E32B-4A40-B1ED-B4CD2A0678B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AE23-7A08-4C4A-AD17-D17C0ECAF8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F4B7-35B1-448F-9C4D-86B1FD89B0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BF5D-0543-4601-93A8-D7E5B1D6C2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3039-B6A7-46E6-8AFA-69E53E4555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F4D4-C888-40BF-81FC-A0073604F4F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CA2B-6794-4EC5-A4C4-F5D3AF4FA4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27AB-CFD2-44A6-9436-13ED03D2BB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2A4A-1B1B-4716-8F4D-858874103C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180A-1E19-4D26-A613-C956495EEF5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E052-FBE0-456C-B57F-645EA6678C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1425-34B1-4121-948F-F323C875E01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8FBD-BBE4-497C-8CE1-DA493110B9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898D-3E5E-4ABA-8B15-7C5F2DA7F2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